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B02-9366-4EB6-AE02-BCDFF3B9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818-F5B1-4398-9901-F2151440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489-C95D-4DD1-9AAC-624B849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ED1-C36F-4261-84B8-7954311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5E4-10E0-43F1-82F5-7DDB4C23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B74-FBA0-4DEE-8A12-DE1249C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53C-D082-4EAB-973B-6173A76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CCF-5BB8-416F-B24E-0275894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BF3-4446-41D6-AD45-1A8EC56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232-7DB5-46BA-B41C-41124642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D3B-5A13-44CD-AF8D-2C2B167C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8C2-523E-4E91-A4CD-37BD9B0E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3A8-2C83-4CED-80F2-0C295D08C99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69800" y="352440"/>
            <a:ext cx="4393800" cy="2863800"/>
            <a:chOff x="469800" y="352440"/>
            <a:chExt cx="4393800" cy="2863800"/>
          </a:xfrm>
        </p:grpSpPr>
        <p:sp>
          <p:nvSpPr>
            <p:cNvPr id="88" name=""/>
            <p:cNvSpPr/>
            <p:nvPr/>
          </p:nvSpPr>
          <p:spPr>
            <a:xfrm>
              <a:off x="46980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408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928440" y="1282680"/>
              <a:ext cx="3455280" cy="1255680"/>
              <a:chOff x="928440" y="1282680"/>
              <a:chExt cx="3455280" cy="1255680"/>
            </a:xfrm>
          </p:grpSpPr>
          <p:sp>
            <p:nvSpPr>
              <p:cNvPr id="91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8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19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5492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834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8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19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5492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34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8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19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5492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834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8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19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5492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834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16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119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469800" y="3454560"/>
            <a:ext cx="4393800" cy="2863800"/>
            <a:chOff x="469800" y="3454560"/>
            <a:chExt cx="4393800" cy="2863800"/>
          </a:xfrm>
        </p:grpSpPr>
        <p:sp>
          <p:nvSpPr>
            <p:cNvPr id="144" name=""/>
            <p:cNvSpPr/>
            <p:nvPr/>
          </p:nvSpPr>
          <p:spPr>
            <a:xfrm>
              <a:off x="46980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408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28440" y="4397400"/>
              <a:ext cx="3455280" cy="1255680"/>
              <a:chOff x="928440" y="4397400"/>
              <a:chExt cx="3455280" cy="1255680"/>
            </a:xfrm>
          </p:grpSpPr>
          <p:sp>
            <p:nvSpPr>
              <p:cNvPr id="147" name=""/>
              <p:cNvSpPr/>
              <p:nvPr/>
            </p:nvSpPr>
            <p:spPr>
              <a:xfrm>
                <a:off x="92844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6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8916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195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5492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834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2844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6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916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195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5492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34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2844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6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8916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195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5492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834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2844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6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8916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195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5492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834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72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9160" y="4059360"/>
              <a:ext cx="37656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573880" y="4398840"/>
              <a:ext cx="3454920" cy="1255680"/>
              <a:chOff x="5573880" y="4398840"/>
              <a:chExt cx="3454920" cy="1255680"/>
            </a:xfrm>
          </p:grpSpPr>
          <p:sp>
            <p:nvSpPr>
              <p:cNvPr id="175" name=""/>
              <p:cNvSpPr/>
              <p:nvPr/>
            </p:nvSpPr>
            <p:spPr>
              <a:xfrm>
                <a:off x="5573880" y="44002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0568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3424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496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00000" y="43988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2856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73880" y="47988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0568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3424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46496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00000" y="47973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2856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73880" y="51940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0568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3424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6496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00000" y="51926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2856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73880" y="5589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0568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3424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6496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00000" y="5587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2856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00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8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"/>
          <p:cNvGrpSpPr/>
          <p:nvPr/>
        </p:nvGrpSpPr>
        <p:grpSpPr>
          <a:xfrm>
            <a:off x="469800" y="352440"/>
            <a:ext cx="4393800" cy="2863800"/>
            <a:chOff x="469800" y="352440"/>
            <a:chExt cx="4393800" cy="2863800"/>
          </a:xfrm>
        </p:grpSpPr>
        <p:sp>
          <p:nvSpPr>
            <p:cNvPr id="1190" name=""/>
            <p:cNvSpPr/>
            <p:nvPr/>
          </p:nvSpPr>
          <p:spPr>
            <a:xfrm>
              <a:off x="46980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8408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928440" y="1282680"/>
              <a:ext cx="3455280" cy="1255680"/>
              <a:chOff x="928440" y="1282680"/>
              <a:chExt cx="3455280" cy="1255680"/>
            </a:xfrm>
          </p:grpSpPr>
          <p:sp>
            <p:nvSpPr>
              <p:cNvPr id="1193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8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819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5492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834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18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819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492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0834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8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819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5492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0834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8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819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45492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0834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5116680" y="352440"/>
            <a:ext cx="4393800" cy="2863800"/>
            <a:chOff x="5116680" y="352440"/>
            <a:chExt cx="4393800" cy="2863800"/>
          </a:xfrm>
        </p:grpSpPr>
        <p:sp>
          <p:nvSpPr>
            <p:cNvPr id="1218" name=""/>
            <p:cNvSpPr/>
            <p:nvPr/>
          </p:nvSpPr>
          <p:spPr>
            <a:xfrm>
              <a:off x="511668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29160" y="952560"/>
              <a:ext cx="37656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573880" y="1282680"/>
              <a:ext cx="3454920" cy="1255680"/>
              <a:chOff x="5573880" y="1282680"/>
              <a:chExt cx="3454920" cy="12556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57388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2056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83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4649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10000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285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7388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2056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83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4649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10000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85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57388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2056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3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649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10000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285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57388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2056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3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649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0000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285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5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246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249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27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27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2" name=""/>
          <p:cNvGrpSpPr/>
          <p:nvPr/>
        </p:nvGrpSpPr>
        <p:grpSpPr>
          <a:xfrm>
            <a:off x="473040" y="3454560"/>
            <a:ext cx="4393800" cy="2863800"/>
            <a:chOff x="473040" y="3454560"/>
            <a:chExt cx="4393800" cy="2863800"/>
          </a:xfrm>
        </p:grpSpPr>
        <p:sp>
          <p:nvSpPr>
            <p:cNvPr id="1283" name=""/>
            <p:cNvSpPr/>
            <p:nvPr/>
          </p:nvSpPr>
          <p:spPr>
            <a:xfrm>
              <a:off x="47304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408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928800" y="4395600"/>
              <a:ext cx="3454920" cy="1254960"/>
              <a:chOff x="928800" y="4395600"/>
              <a:chExt cx="3454920" cy="1254960"/>
            </a:xfrm>
          </p:grpSpPr>
          <p:sp>
            <p:nvSpPr>
              <p:cNvPr id="1286" name=""/>
              <p:cNvSpPr/>
              <p:nvPr/>
            </p:nvSpPr>
            <p:spPr>
              <a:xfrm>
                <a:off x="92880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5606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18916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81988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45492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08348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92880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5606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18916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81988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45492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08348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92880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5606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18916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81988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45492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08348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92880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5606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8916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1988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45492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8348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10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1312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1315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9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340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7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1368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1371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5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396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399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42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32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1434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408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928440" y="1282680"/>
              <a:ext cx="3455280" cy="1255680"/>
              <a:chOff x="928440" y="1282680"/>
              <a:chExt cx="3455280" cy="1255680"/>
            </a:xfrm>
          </p:grpSpPr>
          <p:sp>
            <p:nvSpPr>
              <p:cNvPr id="1437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18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819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45492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0834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18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819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45492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0834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8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19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45492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0834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8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19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45492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0834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1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462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1465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9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1490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8408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928440" y="4397400"/>
              <a:ext cx="3455280" cy="1255680"/>
              <a:chOff x="928440" y="4397400"/>
              <a:chExt cx="3455280" cy="1255680"/>
            </a:xfrm>
          </p:grpSpPr>
          <p:sp>
            <p:nvSpPr>
              <p:cNvPr id="1493" name=""/>
              <p:cNvSpPr/>
              <p:nvPr/>
            </p:nvSpPr>
            <p:spPr>
              <a:xfrm>
                <a:off x="92844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6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18916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8195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45492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0834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92844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56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8916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8195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45492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834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2844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56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18916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8195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45492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834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2844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56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18916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195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45492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834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7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518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521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5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546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54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1556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1559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584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6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1587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1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1612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1615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9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640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643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7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668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670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3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76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7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1678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1681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706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1709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1734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1737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1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762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4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765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9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790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5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98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9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1800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2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1803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7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828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1831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5" name=""/>
          <p:cNvGrpSpPr/>
          <p:nvPr/>
        </p:nvGrpSpPr>
        <p:grpSpPr>
          <a:xfrm>
            <a:off x="469800" y="3456000"/>
            <a:ext cx="4394160" cy="2863800"/>
            <a:chOff x="469800" y="3456000"/>
            <a:chExt cx="4394160" cy="2863800"/>
          </a:xfrm>
        </p:grpSpPr>
        <p:sp>
          <p:nvSpPr>
            <p:cNvPr id="1856" name=""/>
            <p:cNvSpPr/>
            <p:nvPr/>
          </p:nvSpPr>
          <p:spPr>
            <a:xfrm>
              <a:off x="469800" y="345600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80120" y="4057560"/>
              <a:ext cx="376560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92520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573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18592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162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452040" y="439740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80960" y="43974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92520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5573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18592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162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452040" y="479592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080960" y="479592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2520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5573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18592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8162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452040" y="519120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080960" y="51912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925200" y="558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557360" y="558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85920" y="558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816280" y="5586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452040" y="558648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080960" y="558648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883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5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886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0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911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913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6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19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469800" y="352440"/>
            <a:ext cx="4394160" cy="2865600"/>
            <a:chOff x="469800" y="352440"/>
            <a:chExt cx="4394160" cy="2865600"/>
          </a:xfrm>
        </p:grpSpPr>
        <p:grpSp>
          <p:nvGrpSpPr>
            <p:cNvPr id="1921" name=""/>
            <p:cNvGrpSpPr/>
            <p:nvPr/>
          </p:nvGrpSpPr>
          <p:grpSpPr>
            <a:xfrm>
              <a:off x="469800" y="352440"/>
              <a:ext cx="4394160" cy="2865600"/>
              <a:chOff x="469800" y="352440"/>
              <a:chExt cx="4394160" cy="2865600"/>
            </a:xfrm>
          </p:grpSpPr>
          <p:sp>
            <p:nvSpPr>
              <p:cNvPr id="1922" name=""/>
              <p:cNvSpPr/>
              <p:nvPr/>
            </p:nvSpPr>
            <p:spPr>
              <a:xfrm>
                <a:off x="469800" y="352440"/>
                <a:ext cx="4394160" cy="2865600"/>
              </a:xfrm>
              <a:prstGeom prst="roundRect">
                <a:avLst>
                  <a:gd name="adj" fmla="val 10014"/>
                </a:avLst>
              </a:prstGeom>
              <a:solidFill>
                <a:srgbClr val="5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61760" y="93996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0720" y="844560"/>
                <a:ext cx="3879720" cy="191484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58800" y="735120"/>
                <a:ext cx="400032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0640" y="66708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42680" y="900360"/>
                <a:ext cx="3838680" cy="180792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91920" y="79236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>
              <a:off x="784080" y="943200"/>
              <a:ext cx="37638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0" name=""/>
            <p:cNvGrpSpPr/>
            <p:nvPr/>
          </p:nvGrpSpPr>
          <p:grpSpPr>
            <a:xfrm>
              <a:off x="928440" y="1273320"/>
              <a:ext cx="3454560" cy="1255680"/>
              <a:chOff x="928440" y="1273320"/>
              <a:chExt cx="3454560" cy="1255680"/>
            </a:xfrm>
          </p:grpSpPr>
          <p:sp>
            <p:nvSpPr>
              <p:cNvPr id="1931" name=""/>
              <p:cNvSpPr/>
              <p:nvPr/>
            </p:nvSpPr>
            <p:spPr>
              <a:xfrm>
                <a:off x="928440" y="1274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560240" y="12733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188800" y="12733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819160" y="12733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454200" y="12733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082760" y="12733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928440" y="16732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560240" y="1671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188800" y="1671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819160" y="1671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454200" y="16718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082760" y="1671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928440" y="20685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560240" y="2067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188800" y="2067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819160" y="2067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454200" y="20671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082760" y="2067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928440" y="2463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560240" y="2462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188800" y="2462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819160" y="2462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454200" y="2462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082760" y="2462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5" name=""/>
          <p:cNvGrpSpPr/>
          <p:nvPr/>
        </p:nvGrpSpPr>
        <p:grpSpPr>
          <a:xfrm>
            <a:off x="5116680" y="352440"/>
            <a:ext cx="4394160" cy="2865600"/>
            <a:chOff x="5116680" y="352440"/>
            <a:chExt cx="4394160" cy="2865600"/>
          </a:xfrm>
        </p:grpSpPr>
        <p:grpSp>
          <p:nvGrpSpPr>
            <p:cNvPr id="1956" name=""/>
            <p:cNvGrpSpPr/>
            <p:nvPr/>
          </p:nvGrpSpPr>
          <p:grpSpPr>
            <a:xfrm>
              <a:off x="5116680" y="352440"/>
              <a:ext cx="4394160" cy="2865600"/>
              <a:chOff x="5116680" y="352440"/>
              <a:chExt cx="4394160" cy="2865600"/>
            </a:xfrm>
          </p:grpSpPr>
          <p:sp>
            <p:nvSpPr>
              <p:cNvPr id="1957" name=""/>
              <p:cNvSpPr/>
              <p:nvPr/>
            </p:nvSpPr>
            <p:spPr>
              <a:xfrm>
                <a:off x="5116680" y="352440"/>
                <a:ext cx="4394160" cy="2865600"/>
              </a:xfrm>
              <a:prstGeom prst="roundRect">
                <a:avLst>
                  <a:gd name="adj" fmla="val 10014"/>
                </a:avLst>
              </a:prstGeom>
              <a:solidFill>
                <a:srgbClr val="5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08640" y="93996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367600" y="844560"/>
                <a:ext cx="3879720" cy="191484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05680" y="735120"/>
                <a:ext cx="400032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267520" y="66708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389560" y="900360"/>
                <a:ext cx="3838680" cy="180792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338800" y="79236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4" name=""/>
            <p:cNvSpPr/>
            <p:nvPr/>
          </p:nvSpPr>
          <p:spPr>
            <a:xfrm>
              <a:off x="5429160" y="9525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5" name=""/>
            <p:cNvGrpSpPr/>
            <p:nvPr/>
          </p:nvGrpSpPr>
          <p:grpSpPr>
            <a:xfrm>
              <a:off x="5573880" y="1282680"/>
              <a:ext cx="3453840" cy="1255680"/>
              <a:chOff x="5573880" y="1282680"/>
              <a:chExt cx="3453840" cy="1255680"/>
            </a:xfrm>
          </p:grpSpPr>
          <p:sp>
            <p:nvSpPr>
              <p:cNvPr id="1966" name=""/>
              <p:cNvSpPr/>
              <p:nvPr/>
            </p:nvSpPr>
            <p:spPr>
              <a:xfrm>
                <a:off x="5573880" y="1284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20532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83388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6424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099280" y="128268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872784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573880" y="168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20532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83388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46424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099280" y="168120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72784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573880" y="207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20532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83388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46424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099280" y="207648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72784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573880" y="2473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20532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83388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46424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099280" y="24717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72784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0" name=""/>
          <p:cNvGrpSpPr/>
          <p:nvPr/>
        </p:nvGrpSpPr>
        <p:grpSpPr>
          <a:xfrm>
            <a:off x="469800" y="3454560"/>
            <a:ext cx="4394160" cy="2865240"/>
            <a:chOff x="469800" y="3454560"/>
            <a:chExt cx="4394160" cy="2865240"/>
          </a:xfrm>
        </p:grpSpPr>
        <p:grpSp>
          <p:nvGrpSpPr>
            <p:cNvPr id="1991" name=""/>
            <p:cNvGrpSpPr/>
            <p:nvPr/>
          </p:nvGrpSpPr>
          <p:grpSpPr>
            <a:xfrm>
              <a:off x="469800" y="3454560"/>
              <a:ext cx="4394160" cy="2865240"/>
              <a:chOff x="469800" y="3454560"/>
              <a:chExt cx="4394160" cy="2865240"/>
            </a:xfrm>
          </p:grpSpPr>
          <p:sp>
            <p:nvSpPr>
              <p:cNvPr id="1992" name=""/>
              <p:cNvSpPr/>
              <p:nvPr/>
            </p:nvSpPr>
            <p:spPr>
              <a:xfrm>
                <a:off x="46980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5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1760" y="4041720"/>
                <a:ext cx="380052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20720" y="3946320"/>
                <a:ext cx="387972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58800" y="3836880"/>
                <a:ext cx="400032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20640" y="3768840"/>
                <a:ext cx="4079880" cy="227124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42680" y="4002120"/>
                <a:ext cx="3838680" cy="180756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91920" y="3894120"/>
                <a:ext cx="3935520" cy="202212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784080" y="4057560"/>
              <a:ext cx="3763800" cy="1698840"/>
              <a:chOff x="784080" y="4057560"/>
              <a:chExt cx="3763800" cy="1698840"/>
            </a:xfrm>
          </p:grpSpPr>
          <p:sp>
            <p:nvSpPr>
              <p:cNvPr id="2000" name=""/>
              <p:cNvSpPr/>
              <p:nvPr/>
            </p:nvSpPr>
            <p:spPr>
              <a:xfrm>
                <a:off x="784080" y="4057560"/>
                <a:ext cx="3763800" cy="169884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1" name=""/>
              <p:cNvGrpSpPr/>
              <p:nvPr/>
            </p:nvGrpSpPr>
            <p:grpSpPr>
              <a:xfrm>
                <a:off x="928440" y="4397400"/>
                <a:ext cx="3454560" cy="1255680"/>
                <a:chOff x="928440" y="4397400"/>
                <a:chExt cx="3454560" cy="125568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928440" y="43988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56024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218880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28191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454200" y="43974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0827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928440" y="479736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56024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218880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8191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454200" y="479592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0827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928440" y="51926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56024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218880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28191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454200" y="51912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0827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928440" y="5587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56024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18880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8191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454200" y="558648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0827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26" name=""/>
          <p:cNvGrpSpPr/>
          <p:nvPr/>
        </p:nvGrpSpPr>
        <p:grpSpPr>
          <a:xfrm>
            <a:off x="5116680" y="3454560"/>
            <a:ext cx="4394160" cy="2865240"/>
            <a:chOff x="5116680" y="3454560"/>
            <a:chExt cx="4394160" cy="2865240"/>
          </a:xfrm>
        </p:grpSpPr>
        <p:grpSp>
          <p:nvGrpSpPr>
            <p:cNvPr id="2027" name=""/>
            <p:cNvGrpSpPr/>
            <p:nvPr/>
          </p:nvGrpSpPr>
          <p:grpSpPr>
            <a:xfrm>
              <a:off x="5116680" y="3454560"/>
              <a:ext cx="4394160" cy="2865240"/>
              <a:chOff x="5116680" y="3454560"/>
              <a:chExt cx="4394160" cy="2865240"/>
            </a:xfrm>
          </p:grpSpPr>
          <p:sp>
            <p:nvSpPr>
              <p:cNvPr id="2028" name=""/>
              <p:cNvSpPr/>
              <p:nvPr/>
            </p:nvSpPr>
            <p:spPr>
              <a:xfrm>
                <a:off x="511668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5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408640" y="4041720"/>
                <a:ext cx="380052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67600" y="3946320"/>
                <a:ext cx="387972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05680" y="3836880"/>
                <a:ext cx="400032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267520" y="3768840"/>
                <a:ext cx="4079880" cy="227124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389560" y="4002120"/>
                <a:ext cx="3838680" cy="180756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338800" y="3894120"/>
                <a:ext cx="3935520" cy="202212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0bb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5" name=""/>
            <p:cNvSpPr/>
            <p:nvPr/>
          </p:nvSpPr>
          <p:spPr>
            <a:xfrm>
              <a:off x="5429160" y="40593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5573880" y="4398840"/>
              <a:ext cx="3453840" cy="1255680"/>
              <a:chOff x="5573880" y="4398840"/>
              <a:chExt cx="3453840" cy="1255680"/>
            </a:xfrm>
          </p:grpSpPr>
          <p:sp>
            <p:nvSpPr>
              <p:cNvPr id="2037" name=""/>
              <p:cNvSpPr/>
              <p:nvPr/>
            </p:nvSpPr>
            <p:spPr>
              <a:xfrm>
                <a:off x="5573880" y="44002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20532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83388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46424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8099280" y="43988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872784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73880" y="47988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20532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83388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46424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8099280" y="47973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872784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73880" y="51940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20532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83388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46424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8099280" y="51926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872784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73880" y="5589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20532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83388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46424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099280" y="558792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72784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1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062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3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064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065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7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70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1" name=""/>
          <p:cNvGrpSpPr/>
          <p:nvPr/>
        </p:nvGrpSpPr>
        <p:grpSpPr>
          <a:xfrm>
            <a:off x="469800" y="352440"/>
            <a:ext cx="4394160" cy="2865600"/>
            <a:chOff x="469800" y="352440"/>
            <a:chExt cx="4394160" cy="2865600"/>
          </a:xfrm>
        </p:grpSpPr>
        <p:grpSp>
          <p:nvGrpSpPr>
            <p:cNvPr id="2072" name=""/>
            <p:cNvGrpSpPr/>
            <p:nvPr/>
          </p:nvGrpSpPr>
          <p:grpSpPr>
            <a:xfrm>
              <a:off x="469800" y="352440"/>
              <a:ext cx="4394160" cy="2865600"/>
              <a:chOff x="469800" y="352440"/>
              <a:chExt cx="4394160" cy="2865600"/>
            </a:xfrm>
          </p:grpSpPr>
          <p:sp>
            <p:nvSpPr>
              <p:cNvPr id="2073" name=""/>
              <p:cNvSpPr/>
              <p:nvPr/>
            </p:nvSpPr>
            <p:spPr>
              <a:xfrm>
                <a:off x="469800" y="352440"/>
                <a:ext cx="4394160" cy="2865600"/>
              </a:xfrm>
              <a:prstGeom prst="roundRect">
                <a:avLst>
                  <a:gd name="adj" fmla="val 10014"/>
                </a:avLst>
              </a:prstGeom>
              <a:solidFill>
                <a:srgbClr val="ff9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61760" y="93996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0360" y="844560"/>
                <a:ext cx="3880080" cy="191484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58440" y="735120"/>
                <a:ext cx="400068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20280" y="66708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42680" y="900360"/>
                <a:ext cx="3838680" cy="180792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91920" y="79236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784080" y="952560"/>
              <a:ext cx="37638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1" name=""/>
            <p:cNvGrpSpPr/>
            <p:nvPr/>
          </p:nvGrpSpPr>
          <p:grpSpPr>
            <a:xfrm>
              <a:off x="928440" y="1282680"/>
              <a:ext cx="3454560" cy="1255680"/>
              <a:chOff x="928440" y="1282680"/>
              <a:chExt cx="3454560" cy="1255680"/>
            </a:xfrm>
          </p:grpSpPr>
          <p:sp>
            <p:nvSpPr>
              <p:cNvPr id="2082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188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81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45420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0827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188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81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45420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0827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188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81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45420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0827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188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81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45420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0827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6" name=""/>
          <p:cNvGrpSpPr/>
          <p:nvPr/>
        </p:nvGrpSpPr>
        <p:grpSpPr>
          <a:xfrm>
            <a:off x="5116680" y="352440"/>
            <a:ext cx="4394160" cy="2865600"/>
            <a:chOff x="5116680" y="352440"/>
            <a:chExt cx="4394160" cy="2865600"/>
          </a:xfrm>
        </p:grpSpPr>
        <p:grpSp>
          <p:nvGrpSpPr>
            <p:cNvPr id="2107" name=""/>
            <p:cNvGrpSpPr/>
            <p:nvPr/>
          </p:nvGrpSpPr>
          <p:grpSpPr>
            <a:xfrm>
              <a:off x="5116680" y="352440"/>
              <a:ext cx="4394160" cy="2865600"/>
              <a:chOff x="5116680" y="352440"/>
              <a:chExt cx="4394160" cy="2865600"/>
            </a:xfrm>
          </p:grpSpPr>
          <p:sp>
            <p:nvSpPr>
              <p:cNvPr id="2108" name=""/>
              <p:cNvSpPr/>
              <p:nvPr/>
            </p:nvSpPr>
            <p:spPr>
              <a:xfrm>
                <a:off x="5116680" y="352440"/>
                <a:ext cx="4394160" cy="2865600"/>
              </a:xfrm>
              <a:prstGeom prst="roundRect">
                <a:avLst>
                  <a:gd name="adj" fmla="val 10014"/>
                </a:avLst>
              </a:prstGeom>
              <a:solidFill>
                <a:srgbClr val="ff9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08640" y="93996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367240" y="844560"/>
                <a:ext cx="3880080" cy="191484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305320" y="735120"/>
                <a:ext cx="400068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267160" y="66708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389560" y="900360"/>
                <a:ext cx="3838680" cy="180792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338800" y="79236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5" name=""/>
            <p:cNvSpPr/>
            <p:nvPr/>
          </p:nvSpPr>
          <p:spPr>
            <a:xfrm>
              <a:off x="5429160" y="94320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5573880" y="1273320"/>
              <a:ext cx="3453840" cy="1255680"/>
              <a:chOff x="5573880" y="1273320"/>
              <a:chExt cx="3453840" cy="1255680"/>
            </a:xfrm>
          </p:grpSpPr>
          <p:sp>
            <p:nvSpPr>
              <p:cNvPr id="2117" name=""/>
              <p:cNvSpPr/>
              <p:nvPr/>
            </p:nvSpPr>
            <p:spPr>
              <a:xfrm>
                <a:off x="5573880" y="1274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205320" y="12733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33880" y="12733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464240" y="12733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8099280" y="127332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8727840" y="12733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573880" y="16732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205320" y="1671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833880" y="1671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464240" y="1671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8099280" y="16718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8727840" y="1671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573880" y="20685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205320" y="2067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833880" y="2067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464240" y="2067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099280" y="206712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727840" y="2067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573880" y="2463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205320" y="24624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833880" y="24624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4240" y="24624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8099280" y="246240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8727840" y="24624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1" name=""/>
          <p:cNvGrpSpPr/>
          <p:nvPr/>
        </p:nvGrpSpPr>
        <p:grpSpPr>
          <a:xfrm>
            <a:off x="469800" y="3454560"/>
            <a:ext cx="4394160" cy="2865240"/>
            <a:chOff x="469800" y="3454560"/>
            <a:chExt cx="4394160" cy="2865240"/>
          </a:xfrm>
        </p:grpSpPr>
        <p:grpSp>
          <p:nvGrpSpPr>
            <p:cNvPr id="2142" name=""/>
            <p:cNvGrpSpPr/>
            <p:nvPr/>
          </p:nvGrpSpPr>
          <p:grpSpPr>
            <a:xfrm>
              <a:off x="469800" y="3454560"/>
              <a:ext cx="4394160" cy="2865240"/>
              <a:chOff x="469800" y="3454560"/>
              <a:chExt cx="4394160" cy="2865240"/>
            </a:xfrm>
          </p:grpSpPr>
          <p:sp>
            <p:nvSpPr>
              <p:cNvPr id="2143" name=""/>
              <p:cNvSpPr/>
              <p:nvPr/>
            </p:nvSpPr>
            <p:spPr>
              <a:xfrm>
                <a:off x="46980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ff9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61760" y="4041720"/>
                <a:ext cx="380052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20360" y="3946320"/>
                <a:ext cx="38800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58440" y="3836880"/>
                <a:ext cx="400068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20280" y="3768840"/>
                <a:ext cx="4079880" cy="227124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42680" y="4002120"/>
                <a:ext cx="3838680" cy="180756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91920" y="3894120"/>
                <a:ext cx="3935520" cy="202212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784080" y="4057560"/>
              <a:ext cx="3763800" cy="1698840"/>
              <a:chOff x="784080" y="4057560"/>
              <a:chExt cx="3763800" cy="1698840"/>
            </a:xfrm>
          </p:grpSpPr>
          <p:sp>
            <p:nvSpPr>
              <p:cNvPr id="2151" name=""/>
              <p:cNvSpPr/>
              <p:nvPr/>
            </p:nvSpPr>
            <p:spPr>
              <a:xfrm>
                <a:off x="784080" y="4057560"/>
                <a:ext cx="3763800" cy="169884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2" name=""/>
              <p:cNvGrpSpPr/>
              <p:nvPr/>
            </p:nvGrpSpPr>
            <p:grpSpPr>
              <a:xfrm>
                <a:off x="928440" y="4397400"/>
                <a:ext cx="3454560" cy="1255680"/>
                <a:chOff x="928440" y="4397400"/>
                <a:chExt cx="3454560" cy="1255680"/>
              </a:xfrm>
            </p:grpSpPr>
            <p:sp>
              <p:nvSpPr>
                <p:cNvPr id="2153" name=""/>
                <p:cNvSpPr/>
                <p:nvPr/>
              </p:nvSpPr>
              <p:spPr>
                <a:xfrm>
                  <a:off x="928440" y="43988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56024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18880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8191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454200" y="43974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0827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928440" y="479736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156024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218880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28191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454200" y="479592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827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928440" y="51926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56024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218880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28191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454200" y="51912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0827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928440" y="5587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56024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218880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8191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3454200" y="558648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0827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77" name=""/>
          <p:cNvGrpSpPr/>
          <p:nvPr/>
        </p:nvGrpSpPr>
        <p:grpSpPr>
          <a:xfrm>
            <a:off x="5116680" y="3454560"/>
            <a:ext cx="4394160" cy="2865240"/>
            <a:chOff x="5116680" y="3454560"/>
            <a:chExt cx="4394160" cy="2865240"/>
          </a:xfrm>
        </p:grpSpPr>
        <p:grpSp>
          <p:nvGrpSpPr>
            <p:cNvPr id="2178" name=""/>
            <p:cNvGrpSpPr/>
            <p:nvPr/>
          </p:nvGrpSpPr>
          <p:grpSpPr>
            <a:xfrm>
              <a:off x="5116680" y="3454560"/>
              <a:ext cx="4394160" cy="2865240"/>
              <a:chOff x="5116680" y="3454560"/>
              <a:chExt cx="4394160" cy="2865240"/>
            </a:xfrm>
          </p:grpSpPr>
          <p:sp>
            <p:nvSpPr>
              <p:cNvPr id="2179" name=""/>
              <p:cNvSpPr/>
              <p:nvPr/>
            </p:nvSpPr>
            <p:spPr>
              <a:xfrm>
                <a:off x="511668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ff9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408640" y="4041720"/>
                <a:ext cx="380052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367240" y="3946320"/>
                <a:ext cx="38800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305320" y="3836880"/>
                <a:ext cx="400068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267160" y="3768840"/>
                <a:ext cx="4079880" cy="227124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389560" y="4002120"/>
                <a:ext cx="3838680" cy="180756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338800" y="3894120"/>
                <a:ext cx="3935520" cy="202212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58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5429160" y="40593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7" name=""/>
            <p:cNvGrpSpPr/>
            <p:nvPr/>
          </p:nvGrpSpPr>
          <p:grpSpPr>
            <a:xfrm>
              <a:off x="5573880" y="4398840"/>
              <a:ext cx="3453840" cy="1255680"/>
              <a:chOff x="5573880" y="4398840"/>
              <a:chExt cx="3453840" cy="1255680"/>
            </a:xfrm>
          </p:grpSpPr>
          <p:sp>
            <p:nvSpPr>
              <p:cNvPr id="2188" name=""/>
              <p:cNvSpPr/>
              <p:nvPr/>
            </p:nvSpPr>
            <p:spPr>
              <a:xfrm>
                <a:off x="5573880" y="44002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20532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83388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46424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8099280" y="43988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872784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573880" y="47988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20532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83388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46424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8099280" y="47973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872784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73880" y="51940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20532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83388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46424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8099280" y="51926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872784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73880" y="5589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20532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83388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46424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099280" y="558792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72784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2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213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4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8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21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"/>
          <p:cNvGrpSpPr/>
          <p:nvPr/>
        </p:nvGrpSpPr>
        <p:grpSpPr>
          <a:xfrm>
            <a:off x="469800" y="352440"/>
            <a:ext cx="4394160" cy="2865240"/>
            <a:chOff x="469800" y="352440"/>
            <a:chExt cx="4394160" cy="2865240"/>
          </a:xfrm>
        </p:grpSpPr>
        <p:grpSp>
          <p:nvGrpSpPr>
            <p:cNvPr id="2223" name=""/>
            <p:cNvGrpSpPr/>
            <p:nvPr/>
          </p:nvGrpSpPr>
          <p:grpSpPr>
            <a:xfrm>
              <a:off x="469800" y="352440"/>
              <a:ext cx="4394160" cy="2865240"/>
              <a:chOff x="469800" y="352440"/>
              <a:chExt cx="4394160" cy="2865240"/>
            </a:xfrm>
          </p:grpSpPr>
          <p:sp>
            <p:nvSpPr>
              <p:cNvPr id="2224" name=""/>
              <p:cNvSpPr/>
              <p:nvPr/>
            </p:nvSpPr>
            <p:spPr>
              <a:xfrm>
                <a:off x="469800" y="35244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93f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66440" y="936720"/>
                <a:ext cx="379908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31ff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25400" y="841320"/>
                <a:ext cx="38782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3480" y="731880"/>
                <a:ext cx="399888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25320" y="663480"/>
                <a:ext cx="40780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47360" y="896760"/>
                <a:ext cx="383724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96600" y="788760"/>
                <a:ext cx="393408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1" name=""/>
            <p:cNvSpPr/>
            <p:nvPr/>
          </p:nvSpPr>
          <p:spPr>
            <a:xfrm>
              <a:off x="784080" y="952560"/>
              <a:ext cx="37638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928440" y="1282680"/>
              <a:ext cx="3454560" cy="1255680"/>
              <a:chOff x="928440" y="1282680"/>
              <a:chExt cx="3454560" cy="1255680"/>
            </a:xfrm>
          </p:grpSpPr>
          <p:sp>
            <p:nvSpPr>
              <p:cNvPr id="2233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188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81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45420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827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188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81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45420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0827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188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81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45420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0827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188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81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45420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0827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7" name=""/>
          <p:cNvGrpSpPr/>
          <p:nvPr/>
        </p:nvGrpSpPr>
        <p:grpSpPr>
          <a:xfrm>
            <a:off x="5116680" y="352440"/>
            <a:ext cx="4394160" cy="2865240"/>
            <a:chOff x="5116680" y="352440"/>
            <a:chExt cx="4394160" cy="2865240"/>
          </a:xfrm>
        </p:grpSpPr>
        <p:grpSp>
          <p:nvGrpSpPr>
            <p:cNvPr id="2258" name=""/>
            <p:cNvGrpSpPr/>
            <p:nvPr/>
          </p:nvGrpSpPr>
          <p:grpSpPr>
            <a:xfrm>
              <a:off x="5116680" y="352440"/>
              <a:ext cx="4394160" cy="2865240"/>
              <a:chOff x="5116680" y="352440"/>
              <a:chExt cx="4394160" cy="2865240"/>
            </a:xfrm>
          </p:grpSpPr>
          <p:sp>
            <p:nvSpPr>
              <p:cNvPr id="2259" name=""/>
              <p:cNvSpPr/>
              <p:nvPr/>
            </p:nvSpPr>
            <p:spPr>
              <a:xfrm>
                <a:off x="5116680" y="35244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93f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413320" y="936720"/>
                <a:ext cx="379908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31ff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372280" y="841320"/>
                <a:ext cx="38782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310360" y="731880"/>
                <a:ext cx="399888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272200" y="663480"/>
                <a:ext cx="40780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394240" y="896760"/>
                <a:ext cx="383724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343480" y="788760"/>
                <a:ext cx="393408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5428440" y="9525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7" name=""/>
            <p:cNvGrpSpPr/>
            <p:nvPr/>
          </p:nvGrpSpPr>
          <p:grpSpPr>
            <a:xfrm>
              <a:off x="5573520" y="1282680"/>
              <a:ext cx="3453120" cy="1255680"/>
              <a:chOff x="5573520" y="1282680"/>
              <a:chExt cx="3453120" cy="1255680"/>
            </a:xfrm>
          </p:grpSpPr>
          <p:sp>
            <p:nvSpPr>
              <p:cNvPr id="2268" name=""/>
              <p:cNvSpPr/>
              <p:nvPr/>
            </p:nvSpPr>
            <p:spPr>
              <a:xfrm>
                <a:off x="5573520" y="1284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20496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3316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46352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8098200" y="128268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72676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573520" y="168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20496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3316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46352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098200" y="168120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2676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573520" y="207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20496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83316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46352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98200" y="207648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72676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573520" y="2473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20496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83316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46352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8098200" y="24717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72676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2" name=""/>
          <p:cNvGrpSpPr/>
          <p:nvPr/>
        </p:nvGrpSpPr>
        <p:grpSpPr>
          <a:xfrm>
            <a:off x="469800" y="3454560"/>
            <a:ext cx="4394160" cy="2865240"/>
            <a:chOff x="469800" y="3454560"/>
            <a:chExt cx="4394160" cy="2865240"/>
          </a:xfrm>
        </p:grpSpPr>
        <p:grpSp>
          <p:nvGrpSpPr>
            <p:cNvPr id="2293" name=""/>
            <p:cNvGrpSpPr/>
            <p:nvPr/>
          </p:nvGrpSpPr>
          <p:grpSpPr>
            <a:xfrm>
              <a:off x="469800" y="3454560"/>
              <a:ext cx="4394160" cy="2865240"/>
              <a:chOff x="469800" y="3454560"/>
              <a:chExt cx="4394160" cy="2865240"/>
            </a:xfrm>
          </p:grpSpPr>
          <p:sp>
            <p:nvSpPr>
              <p:cNvPr id="2294" name=""/>
              <p:cNvSpPr/>
              <p:nvPr/>
            </p:nvSpPr>
            <p:spPr>
              <a:xfrm>
                <a:off x="46980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93f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66440" y="4038840"/>
                <a:ext cx="379908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31ff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5400" y="3943440"/>
                <a:ext cx="38782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63480" y="3834000"/>
                <a:ext cx="399888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5320" y="3765600"/>
                <a:ext cx="40780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47360" y="3998880"/>
                <a:ext cx="383724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96600" y="3890880"/>
                <a:ext cx="393408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784080" y="4057560"/>
              <a:ext cx="3763800" cy="1698840"/>
              <a:chOff x="784080" y="4057560"/>
              <a:chExt cx="3763800" cy="1698840"/>
            </a:xfrm>
          </p:grpSpPr>
          <p:sp>
            <p:nvSpPr>
              <p:cNvPr id="2302" name=""/>
              <p:cNvSpPr/>
              <p:nvPr/>
            </p:nvSpPr>
            <p:spPr>
              <a:xfrm>
                <a:off x="784080" y="4057560"/>
                <a:ext cx="3763800" cy="169884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3" name=""/>
              <p:cNvGrpSpPr/>
              <p:nvPr/>
            </p:nvGrpSpPr>
            <p:grpSpPr>
              <a:xfrm>
                <a:off x="928440" y="4397400"/>
                <a:ext cx="3454560" cy="1255680"/>
                <a:chOff x="928440" y="4397400"/>
                <a:chExt cx="3454560" cy="125568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928440" y="43988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156024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18880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8191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3454200" y="43974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0827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928440" y="479736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156024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218880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28191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454200" y="479592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0827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928440" y="51926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156024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18880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28191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454200" y="51912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0827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928440" y="5587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156024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18880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28191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454200" y="558648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0827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28" name=""/>
          <p:cNvGrpSpPr/>
          <p:nvPr/>
        </p:nvGrpSpPr>
        <p:grpSpPr>
          <a:xfrm>
            <a:off x="5116680" y="3454560"/>
            <a:ext cx="4394160" cy="2865240"/>
            <a:chOff x="5116680" y="3454560"/>
            <a:chExt cx="4394160" cy="2865240"/>
          </a:xfrm>
        </p:grpSpPr>
        <p:grpSp>
          <p:nvGrpSpPr>
            <p:cNvPr id="2329" name=""/>
            <p:cNvGrpSpPr/>
            <p:nvPr/>
          </p:nvGrpSpPr>
          <p:grpSpPr>
            <a:xfrm>
              <a:off x="5116680" y="3454560"/>
              <a:ext cx="4394160" cy="2865240"/>
              <a:chOff x="5116680" y="3454560"/>
              <a:chExt cx="4394160" cy="2865240"/>
            </a:xfrm>
          </p:grpSpPr>
          <p:sp>
            <p:nvSpPr>
              <p:cNvPr id="2330" name=""/>
              <p:cNvSpPr/>
              <p:nvPr/>
            </p:nvSpPr>
            <p:spPr>
              <a:xfrm>
                <a:off x="511668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93f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413320" y="4038840"/>
                <a:ext cx="3799080" cy="173016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31ff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372280" y="3943440"/>
                <a:ext cx="38782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310360" y="3834000"/>
                <a:ext cx="3998880" cy="213840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272200" y="3765600"/>
                <a:ext cx="40780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394240" y="3998880"/>
                <a:ext cx="383724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343480" y="3890880"/>
                <a:ext cx="393408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41f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5428440" y="40593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8" name=""/>
            <p:cNvGrpSpPr/>
            <p:nvPr/>
          </p:nvGrpSpPr>
          <p:grpSpPr>
            <a:xfrm>
              <a:off x="5573520" y="4398840"/>
              <a:ext cx="3453120" cy="1255680"/>
              <a:chOff x="5573520" y="4398840"/>
              <a:chExt cx="3453120" cy="125568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73520" y="44002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20496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83316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46352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098200" y="43988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72676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573520" y="47988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20496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83316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6352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98200" y="47973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72676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573520" y="51940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20496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3316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46352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098200" y="51926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72676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73520" y="5589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20496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83316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46352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098200" y="558792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72676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36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36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36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372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3" name=""/>
          <p:cNvGrpSpPr/>
          <p:nvPr/>
        </p:nvGrpSpPr>
        <p:grpSpPr>
          <a:xfrm>
            <a:off x="469800" y="352440"/>
            <a:ext cx="4394160" cy="2865240"/>
            <a:chOff x="469800" y="352440"/>
            <a:chExt cx="4394160" cy="2865240"/>
          </a:xfrm>
        </p:grpSpPr>
        <p:grpSp>
          <p:nvGrpSpPr>
            <p:cNvPr id="2374" name=""/>
            <p:cNvGrpSpPr/>
            <p:nvPr/>
          </p:nvGrpSpPr>
          <p:grpSpPr>
            <a:xfrm>
              <a:off x="469800" y="352440"/>
              <a:ext cx="4394160" cy="2865240"/>
              <a:chOff x="469800" y="352440"/>
              <a:chExt cx="4394160" cy="2865240"/>
            </a:xfrm>
          </p:grpSpPr>
          <p:sp>
            <p:nvSpPr>
              <p:cNvPr id="2375" name=""/>
              <p:cNvSpPr/>
              <p:nvPr/>
            </p:nvSpPr>
            <p:spPr>
              <a:xfrm>
                <a:off x="469800" y="35244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ff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61760" y="93960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0360" y="844560"/>
                <a:ext cx="38800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58440" y="735120"/>
                <a:ext cx="400068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20280" y="66672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42680" y="900000"/>
                <a:ext cx="383868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91920" y="79200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2" name=""/>
            <p:cNvSpPr/>
            <p:nvPr/>
          </p:nvSpPr>
          <p:spPr>
            <a:xfrm>
              <a:off x="784080" y="952560"/>
              <a:ext cx="37638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3" name=""/>
            <p:cNvGrpSpPr/>
            <p:nvPr/>
          </p:nvGrpSpPr>
          <p:grpSpPr>
            <a:xfrm>
              <a:off x="928440" y="1282680"/>
              <a:ext cx="3454560" cy="1255680"/>
              <a:chOff x="928440" y="1282680"/>
              <a:chExt cx="3454560" cy="1255680"/>
            </a:xfrm>
          </p:grpSpPr>
          <p:sp>
            <p:nvSpPr>
              <p:cNvPr id="2384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2188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281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45420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0827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188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81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345420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0827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188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81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5420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0827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188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81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45420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0827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8" name=""/>
          <p:cNvGrpSpPr/>
          <p:nvPr/>
        </p:nvGrpSpPr>
        <p:grpSpPr>
          <a:xfrm>
            <a:off x="5116680" y="352440"/>
            <a:ext cx="4394160" cy="2865240"/>
            <a:chOff x="5116680" y="352440"/>
            <a:chExt cx="4394160" cy="2865240"/>
          </a:xfrm>
        </p:grpSpPr>
        <p:grpSp>
          <p:nvGrpSpPr>
            <p:cNvPr id="2409" name=""/>
            <p:cNvGrpSpPr/>
            <p:nvPr/>
          </p:nvGrpSpPr>
          <p:grpSpPr>
            <a:xfrm>
              <a:off x="5116680" y="352440"/>
              <a:ext cx="4394160" cy="2865240"/>
              <a:chOff x="5116680" y="352440"/>
              <a:chExt cx="4394160" cy="2865240"/>
            </a:xfrm>
          </p:grpSpPr>
          <p:sp>
            <p:nvSpPr>
              <p:cNvPr id="2410" name=""/>
              <p:cNvSpPr/>
              <p:nvPr/>
            </p:nvSpPr>
            <p:spPr>
              <a:xfrm>
                <a:off x="5116680" y="35244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ff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408640" y="93960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67240" y="844560"/>
                <a:ext cx="38800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05320" y="735120"/>
                <a:ext cx="400068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67160" y="66672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389560" y="900000"/>
                <a:ext cx="383868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338800" y="79200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7" name=""/>
            <p:cNvSpPr/>
            <p:nvPr/>
          </p:nvSpPr>
          <p:spPr>
            <a:xfrm>
              <a:off x="5429160" y="9525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8" name=""/>
            <p:cNvGrpSpPr/>
            <p:nvPr/>
          </p:nvGrpSpPr>
          <p:grpSpPr>
            <a:xfrm>
              <a:off x="5573880" y="1282680"/>
              <a:ext cx="3453840" cy="1255680"/>
              <a:chOff x="5573880" y="1282680"/>
              <a:chExt cx="3453840" cy="1255680"/>
            </a:xfrm>
          </p:grpSpPr>
          <p:sp>
            <p:nvSpPr>
              <p:cNvPr id="2419" name=""/>
              <p:cNvSpPr/>
              <p:nvPr/>
            </p:nvSpPr>
            <p:spPr>
              <a:xfrm>
                <a:off x="5573880" y="12841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0532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83388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6424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099280" y="128268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727840" y="12826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573880" y="168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20532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83388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46424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099280" y="168120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727840" y="1681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573880" y="207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20532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83388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46424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099280" y="207648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727840" y="20764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573880" y="24732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0532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83388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46424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099280" y="24717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8727840" y="24717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3" name=""/>
          <p:cNvGrpSpPr/>
          <p:nvPr/>
        </p:nvGrpSpPr>
        <p:grpSpPr>
          <a:xfrm>
            <a:off x="469800" y="3454560"/>
            <a:ext cx="4394160" cy="2865240"/>
            <a:chOff x="469800" y="3454560"/>
            <a:chExt cx="4394160" cy="2865240"/>
          </a:xfrm>
        </p:grpSpPr>
        <p:grpSp>
          <p:nvGrpSpPr>
            <p:cNvPr id="2444" name=""/>
            <p:cNvGrpSpPr/>
            <p:nvPr/>
          </p:nvGrpSpPr>
          <p:grpSpPr>
            <a:xfrm>
              <a:off x="469800" y="3454560"/>
              <a:ext cx="4394160" cy="2865240"/>
              <a:chOff x="469800" y="3454560"/>
              <a:chExt cx="4394160" cy="2865240"/>
            </a:xfrm>
          </p:grpSpPr>
          <p:sp>
            <p:nvSpPr>
              <p:cNvPr id="2445" name=""/>
              <p:cNvSpPr/>
              <p:nvPr/>
            </p:nvSpPr>
            <p:spPr>
              <a:xfrm>
                <a:off x="46980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ff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1760" y="404172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0360" y="3946680"/>
                <a:ext cx="38800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58440" y="3837240"/>
                <a:ext cx="400068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20280" y="376884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2680" y="4002120"/>
                <a:ext cx="383868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91920" y="389412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2" name=""/>
            <p:cNvGrpSpPr/>
            <p:nvPr/>
          </p:nvGrpSpPr>
          <p:grpSpPr>
            <a:xfrm>
              <a:off x="784080" y="4057560"/>
              <a:ext cx="3763800" cy="1698840"/>
              <a:chOff x="784080" y="4057560"/>
              <a:chExt cx="3763800" cy="1698840"/>
            </a:xfrm>
          </p:grpSpPr>
          <p:sp>
            <p:nvSpPr>
              <p:cNvPr id="2453" name=""/>
              <p:cNvSpPr/>
              <p:nvPr/>
            </p:nvSpPr>
            <p:spPr>
              <a:xfrm>
                <a:off x="784080" y="4057560"/>
                <a:ext cx="3763800" cy="1698840"/>
              </a:xfrm>
              <a:prstGeom prst="roundRect">
                <a:avLst>
                  <a:gd name="adj" fmla="val 6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4" name=""/>
              <p:cNvGrpSpPr/>
              <p:nvPr/>
            </p:nvGrpSpPr>
            <p:grpSpPr>
              <a:xfrm>
                <a:off x="928440" y="4397400"/>
                <a:ext cx="3454560" cy="1255680"/>
                <a:chOff x="928440" y="4397400"/>
                <a:chExt cx="3454560" cy="125568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928440" y="43988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156024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218880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8191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3454200" y="43974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4082760" y="43974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928440" y="479736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156024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218880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28191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3454200" y="479592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4082760" y="4795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928440" y="519264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156024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218880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8191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3454200" y="519120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4082760" y="519120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928440" y="558792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156024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2" y="181"/>
                      </a:lnTo>
                      <a:lnTo>
                        <a:pt x="568" y="179"/>
                      </a:lnTo>
                      <a:lnTo>
                        <a:pt x="584" y="175"/>
                      </a:lnTo>
                      <a:lnTo>
                        <a:pt x="598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8" y="14"/>
                      </a:lnTo>
                      <a:lnTo>
                        <a:pt x="584" y="6"/>
                      </a:lnTo>
                      <a:lnTo>
                        <a:pt x="568" y="2"/>
                      </a:lnTo>
                      <a:lnTo>
                        <a:pt x="552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218880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28191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3454200" y="5586480"/>
                  <a:ext cx="2984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5" y="14"/>
                      </a:lnTo>
                      <a:lnTo>
                        <a:pt x="23" y="24"/>
                      </a:lnTo>
                      <a:lnTo>
                        <a:pt x="13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3" y="145"/>
                      </a:lnTo>
                      <a:lnTo>
                        <a:pt x="23" y="157"/>
                      </a:lnTo>
                      <a:lnTo>
                        <a:pt x="35" y="167"/>
                      </a:lnTo>
                      <a:lnTo>
                        <a:pt x="49" y="175"/>
                      </a:lnTo>
                      <a:lnTo>
                        <a:pt x="65" y="179"/>
                      </a:lnTo>
                      <a:lnTo>
                        <a:pt x="81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4082760" y="5586480"/>
                  <a:ext cx="300240" cy="65160"/>
                </a:xfrm>
                <a:custGeom>
                  <a:avLst/>
                  <a:gdLst/>
                  <a:ahLst/>
                  <a:rect l="l" t="t" r="r" b="b"/>
                  <a:pathLst>
                    <a:path w="633" h="181">
                      <a:moveTo>
                        <a:pt x="82" y="0"/>
                      </a:moveTo>
                      <a:lnTo>
                        <a:pt x="66" y="2"/>
                      </a:lnTo>
                      <a:lnTo>
                        <a:pt x="50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99"/>
                      </a:lnTo>
                      <a:lnTo>
                        <a:pt x="2" y="115"/>
                      </a:lnTo>
                      <a:lnTo>
                        <a:pt x="6" y="131"/>
                      </a:lnTo>
                      <a:lnTo>
                        <a:pt x="14" y="145"/>
                      </a:lnTo>
                      <a:lnTo>
                        <a:pt x="24" y="157"/>
                      </a:lnTo>
                      <a:lnTo>
                        <a:pt x="36" y="167"/>
                      </a:lnTo>
                      <a:lnTo>
                        <a:pt x="50" y="175"/>
                      </a:lnTo>
                      <a:lnTo>
                        <a:pt x="66" y="179"/>
                      </a:lnTo>
                      <a:lnTo>
                        <a:pt x="82" y="181"/>
                      </a:lnTo>
                      <a:lnTo>
                        <a:pt x="551" y="181"/>
                      </a:lnTo>
                      <a:lnTo>
                        <a:pt x="567" y="179"/>
                      </a:lnTo>
                      <a:lnTo>
                        <a:pt x="583" y="175"/>
                      </a:lnTo>
                      <a:lnTo>
                        <a:pt x="597" y="167"/>
                      </a:lnTo>
                      <a:lnTo>
                        <a:pt x="609" y="157"/>
                      </a:lnTo>
                      <a:lnTo>
                        <a:pt x="619" y="145"/>
                      </a:lnTo>
                      <a:lnTo>
                        <a:pt x="627" y="131"/>
                      </a:lnTo>
                      <a:lnTo>
                        <a:pt x="631" y="115"/>
                      </a:lnTo>
                      <a:lnTo>
                        <a:pt x="633" y="99"/>
                      </a:lnTo>
                      <a:lnTo>
                        <a:pt x="633" y="81"/>
                      </a:lnTo>
                      <a:lnTo>
                        <a:pt x="631" y="65"/>
                      </a:lnTo>
                      <a:lnTo>
                        <a:pt x="627" y="49"/>
                      </a:lnTo>
                      <a:lnTo>
                        <a:pt x="619" y="36"/>
                      </a:lnTo>
                      <a:lnTo>
                        <a:pt x="609" y="24"/>
                      </a:lnTo>
                      <a:lnTo>
                        <a:pt x="597" y="14"/>
                      </a:lnTo>
                      <a:lnTo>
                        <a:pt x="583" y="6"/>
                      </a:lnTo>
                      <a:lnTo>
                        <a:pt x="567" y="2"/>
                      </a:lnTo>
                      <a:lnTo>
                        <a:pt x="551" y="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9" name=""/>
          <p:cNvGrpSpPr/>
          <p:nvPr/>
        </p:nvGrpSpPr>
        <p:grpSpPr>
          <a:xfrm>
            <a:off x="5116680" y="3454560"/>
            <a:ext cx="4394160" cy="2865240"/>
            <a:chOff x="5116680" y="3454560"/>
            <a:chExt cx="4394160" cy="2865240"/>
          </a:xfrm>
        </p:grpSpPr>
        <p:grpSp>
          <p:nvGrpSpPr>
            <p:cNvPr id="2480" name=""/>
            <p:cNvGrpSpPr/>
            <p:nvPr/>
          </p:nvGrpSpPr>
          <p:grpSpPr>
            <a:xfrm>
              <a:off x="5116680" y="3454560"/>
              <a:ext cx="4394160" cy="2865240"/>
              <a:chOff x="5116680" y="3454560"/>
              <a:chExt cx="4394160" cy="2865240"/>
            </a:xfrm>
          </p:grpSpPr>
          <p:sp>
            <p:nvSpPr>
              <p:cNvPr id="2481" name=""/>
              <p:cNvSpPr/>
              <p:nvPr/>
            </p:nvSpPr>
            <p:spPr>
              <a:xfrm>
                <a:off x="5116680" y="3454560"/>
                <a:ext cx="4394160" cy="2865240"/>
              </a:xfrm>
              <a:prstGeom prst="roundRect">
                <a:avLst>
                  <a:gd name="adj" fmla="val 10014"/>
                </a:avLst>
              </a:prstGeom>
              <a:solidFill>
                <a:srgbClr val="ff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408640" y="4041720"/>
                <a:ext cx="3800520" cy="1730520"/>
              </a:xfrm>
              <a:prstGeom prst="roundRect">
                <a:avLst>
                  <a:gd name="adj" fmla="val 7486"/>
                </a:avLst>
              </a:prstGeom>
              <a:noFill/>
              <a:ln w="32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367240" y="3946680"/>
                <a:ext cx="3880080" cy="1914480"/>
              </a:xfrm>
              <a:prstGeom prst="roundRect">
                <a:avLst>
                  <a:gd name="adj" fmla="val 7685"/>
                </a:avLst>
              </a:prstGeom>
              <a:noFill/>
              <a:ln w="936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305320" y="3837240"/>
                <a:ext cx="4000680" cy="2138040"/>
              </a:xfrm>
              <a:prstGeom prst="roundRect">
                <a:avLst>
                  <a:gd name="adj" fmla="val 7764"/>
                </a:avLst>
              </a:prstGeom>
              <a:noFill/>
              <a:ln w="190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267160" y="3768840"/>
                <a:ext cx="4079880" cy="2271600"/>
              </a:xfrm>
              <a:prstGeom prst="roundRect">
                <a:avLst>
                  <a:gd name="adj" fmla="val 8148"/>
                </a:avLst>
              </a:prstGeom>
              <a:noFill/>
              <a:ln w="2844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389560" y="4002120"/>
                <a:ext cx="3838680" cy="1808280"/>
              </a:xfrm>
              <a:prstGeom prst="roundRect">
                <a:avLst>
                  <a:gd name="adj" fmla="val 7486"/>
                </a:avLst>
              </a:prstGeom>
              <a:noFill/>
              <a:ln w="648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38800" y="3894120"/>
                <a:ext cx="3935520" cy="2022480"/>
              </a:xfrm>
              <a:prstGeom prst="roundRect">
                <a:avLst>
                  <a:gd name="adj" fmla="val 7685"/>
                </a:avLst>
              </a:prstGeom>
              <a:noFill/>
              <a:ln w="12600">
                <a:solidFill>
                  <a:srgbClr val="ff7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8" name=""/>
            <p:cNvSpPr/>
            <p:nvPr/>
          </p:nvSpPr>
          <p:spPr>
            <a:xfrm>
              <a:off x="5429160" y="4059360"/>
              <a:ext cx="376416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9" name=""/>
            <p:cNvGrpSpPr/>
            <p:nvPr/>
          </p:nvGrpSpPr>
          <p:grpSpPr>
            <a:xfrm>
              <a:off x="5573880" y="4398840"/>
              <a:ext cx="3453840" cy="1255680"/>
              <a:chOff x="5573880" y="4398840"/>
              <a:chExt cx="3453840" cy="1255680"/>
            </a:xfrm>
          </p:grpSpPr>
          <p:sp>
            <p:nvSpPr>
              <p:cNvPr id="2490" name=""/>
              <p:cNvSpPr/>
              <p:nvPr/>
            </p:nvSpPr>
            <p:spPr>
              <a:xfrm>
                <a:off x="5573880" y="44002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0532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83388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46424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099280" y="43988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8727840" y="43988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573880" y="479880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20532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83388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46424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8099280" y="479736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8727840" y="4797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573880" y="519408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20532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83388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46424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8099280" y="519264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8727840" y="519264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573880" y="558936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20532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83388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46424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8099280" y="5587920"/>
                <a:ext cx="298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8727840" y="5587920"/>
                <a:ext cx="2998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4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515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517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0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523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210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213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238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241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266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269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294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297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322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30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473040" y="352440"/>
            <a:ext cx="4393800" cy="2863800"/>
            <a:chOff x="473040" y="352440"/>
            <a:chExt cx="4393800" cy="2863800"/>
          </a:xfrm>
        </p:grpSpPr>
        <p:sp>
          <p:nvSpPr>
            <p:cNvPr id="332" name=""/>
            <p:cNvSpPr/>
            <p:nvPr/>
          </p:nvSpPr>
          <p:spPr>
            <a:xfrm>
              <a:off x="47304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4080" y="95076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928800" y="1280880"/>
              <a:ext cx="3454920" cy="1254960"/>
              <a:chOff x="928800" y="1280880"/>
              <a:chExt cx="3454920" cy="1254960"/>
            </a:xfrm>
          </p:grpSpPr>
          <p:sp>
            <p:nvSpPr>
              <p:cNvPr id="335" name=""/>
              <p:cNvSpPr/>
              <p:nvPr/>
            </p:nvSpPr>
            <p:spPr>
              <a:xfrm>
                <a:off x="928800" y="12819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60600" y="12808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89160" y="12808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19880" y="12808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54920" y="128088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83480" y="12808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28800" y="168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60600" y="167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189160" y="167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19880" y="167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54920" y="167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83480" y="167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28800" y="207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60600" y="207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89160" y="207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819880" y="207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54920" y="207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83480" y="207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28800" y="2471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60600" y="2469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89160" y="2469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19880" y="2469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454920" y="2469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083480" y="2469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360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363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388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391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416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425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428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52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454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457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116680" y="352440"/>
            <a:ext cx="4393800" cy="2863800"/>
            <a:chOff x="5116680" y="352440"/>
            <a:chExt cx="4393800" cy="2863800"/>
          </a:xfrm>
        </p:grpSpPr>
        <p:sp>
          <p:nvSpPr>
            <p:cNvPr id="482" name=""/>
            <p:cNvSpPr/>
            <p:nvPr/>
          </p:nvSpPr>
          <p:spPr>
            <a:xfrm>
              <a:off x="511668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29160" y="952560"/>
              <a:ext cx="37656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573880" y="1282680"/>
              <a:ext cx="3454920" cy="1255680"/>
              <a:chOff x="5573880" y="1282680"/>
              <a:chExt cx="3454920" cy="1255680"/>
            </a:xfrm>
          </p:grpSpPr>
          <p:sp>
            <p:nvSpPr>
              <p:cNvPr id="485" name=""/>
              <p:cNvSpPr/>
              <p:nvPr/>
            </p:nvSpPr>
            <p:spPr>
              <a:xfrm>
                <a:off x="557388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056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3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4649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10000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7285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7388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056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3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4649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0000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7285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7388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056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83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4649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0000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7285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388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056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3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4649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10000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7285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469800" y="3454560"/>
            <a:ext cx="4393800" cy="2863800"/>
            <a:chOff x="469800" y="3454560"/>
            <a:chExt cx="4393800" cy="2863800"/>
          </a:xfrm>
        </p:grpSpPr>
        <p:sp>
          <p:nvSpPr>
            <p:cNvPr id="510" name=""/>
            <p:cNvSpPr/>
            <p:nvPr/>
          </p:nvSpPr>
          <p:spPr>
            <a:xfrm>
              <a:off x="46980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408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928440" y="4397400"/>
              <a:ext cx="3455280" cy="1255680"/>
              <a:chOff x="928440" y="4397400"/>
              <a:chExt cx="3455280" cy="1255680"/>
            </a:xfrm>
          </p:grpSpPr>
          <p:sp>
            <p:nvSpPr>
              <p:cNvPr id="513" name=""/>
              <p:cNvSpPr/>
              <p:nvPr/>
            </p:nvSpPr>
            <p:spPr>
              <a:xfrm>
                <a:off x="92844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6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8916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195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5492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834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2844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56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18916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195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45492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834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92844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56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8916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195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45492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834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2844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6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8916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195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5492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834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7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538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29160" y="4059360"/>
              <a:ext cx="37656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573880" y="4398840"/>
              <a:ext cx="3454920" cy="1255680"/>
              <a:chOff x="5573880" y="4398840"/>
              <a:chExt cx="3454920" cy="1255680"/>
            </a:xfrm>
          </p:grpSpPr>
          <p:sp>
            <p:nvSpPr>
              <p:cNvPr id="541" name=""/>
              <p:cNvSpPr/>
              <p:nvPr/>
            </p:nvSpPr>
            <p:spPr>
              <a:xfrm>
                <a:off x="5573880" y="44002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20568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3424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6496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100000" y="43988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72856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73880" y="47988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0568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3424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6496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00000" y="47973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72856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3880" y="51940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0568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3424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46496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100000" y="51926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2856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573880" y="5589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0568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83424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6496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100000" y="5587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2856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5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566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4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9800" y="3454560"/>
            <a:ext cx="4394160" cy="2863800"/>
          </a:xfrm>
          <a:prstGeom prst="roundRect">
            <a:avLst>
              <a:gd name="adj" fmla="val 1001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3760" y="439596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55920" y="43941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84480" y="43941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16280" y="43941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51320" y="439416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79880" y="43941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23760" y="479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55920" y="479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84480" y="479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16280" y="479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51320" y="479268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79880" y="4792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23760" y="5189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55920" y="51879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84480" y="51879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16280" y="51879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51320" y="518796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79880" y="51879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23760" y="5584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55920" y="5583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84480" y="5583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16280" y="5583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51320" y="558324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79880" y="55832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9120" y="41482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9120" y="45514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9120" y="49402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9120" y="53290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605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25560" y="127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5736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8592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1772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52760" y="127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81320" y="127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25560" y="16844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5736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8592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1772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52760" y="1682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8132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25560" y="20797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5736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1772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5276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8132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2556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5736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772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5276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8132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056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0560" y="142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056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056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635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72440" y="127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0424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3280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4600" y="127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99640" y="127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728200" y="127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72440" y="16844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042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3280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460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99640" y="1682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72820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72440" y="20797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0424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32800" y="20779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646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9640" y="2077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728200" y="2077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72440" y="24750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0424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32800" y="2473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646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99640" y="2473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28200" y="2473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37440" y="1019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37440" y="14223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37440" y="181116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440" y="2209680"/>
              <a:ext cx="3746520" cy="15876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116680" y="3454560"/>
            <a:ext cx="4394160" cy="2863800"/>
          </a:xfrm>
          <a:prstGeom prst="roundRect">
            <a:avLst>
              <a:gd name="adj" fmla="val 1001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70640" y="439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02440" y="439596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31000" y="4395960"/>
            <a:ext cx="29988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2800" y="439596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097840" y="4395960"/>
            <a:ext cx="2984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726400" y="439596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70640" y="4795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02440" y="4794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31000" y="47941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2800" y="479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97840" y="479412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726400" y="47941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70640" y="51912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02440" y="5189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31000" y="5189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462800" y="5189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97840" y="518940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726400" y="518940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70640" y="558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02440" y="5584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31000" y="55846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62800" y="5584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97840" y="558468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726400" y="55846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35640" y="41497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35640" y="45529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35640" y="494172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35640" y="5330880"/>
            <a:ext cx="3746520" cy="158760"/>
          </a:xfrm>
          <a:prstGeom prst="roundRect">
            <a:avLst>
              <a:gd name="adj" fmla="val 6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69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469800" y="3456000"/>
            <a:ext cx="4394160" cy="2863800"/>
            <a:chOff x="469800" y="3456000"/>
            <a:chExt cx="4394160" cy="2863800"/>
          </a:xfrm>
        </p:grpSpPr>
        <p:sp>
          <p:nvSpPr>
            <p:cNvPr id="704" name=""/>
            <p:cNvSpPr/>
            <p:nvPr/>
          </p:nvSpPr>
          <p:spPr>
            <a:xfrm>
              <a:off x="469800" y="345600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2520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57360" y="439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85920" y="439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17720" y="439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276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81320" y="43974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25200" y="4788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5736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8592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1772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2760" y="4786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81320" y="4786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25200" y="51832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5736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8592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1772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52760" y="51814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81320" y="5181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25200" y="5578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57360" y="5576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85920" y="5576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7720" y="5576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52760" y="5576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81320" y="5576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116680" y="3454560"/>
            <a:ext cx="4394160" cy="2863800"/>
            <a:chOff x="5116680" y="3454560"/>
            <a:chExt cx="4394160" cy="2863800"/>
          </a:xfrm>
        </p:grpSpPr>
        <p:sp>
          <p:nvSpPr>
            <p:cNvPr id="730" name=""/>
            <p:cNvSpPr/>
            <p:nvPr/>
          </p:nvSpPr>
          <p:spPr>
            <a:xfrm>
              <a:off x="5116680" y="345456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72080" y="4397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0388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3244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6460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928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2820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72080" y="47862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03880" y="4784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32440" y="4784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64600" y="47847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099280" y="478476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728200" y="47847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72080" y="51814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03880" y="5180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2440" y="518004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64600" y="5180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99280" y="518004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728200" y="51800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72080" y="55767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03880" y="5575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32440" y="55753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64600" y="5575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99280" y="55753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728200" y="55753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116680" y="353880"/>
            <a:ext cx="4394160" cy="2864160"/>
            <a:chOff x="5116680" y="353880"/>
            <a:chExt cx="4394160" cy="2864160"/>
          </a:xfrm>
        </p:grpSpPr>
        <p:sp>
          <p:nvSpPr>
            <p:cNvPr id="756" name=""/>
            <p:cNvSpPr/>
            <p:nvPr/>
          </p:nvSpPr>
          <p:spPr>
            <a:xfrm>
              <a:off x="5610240" y="1274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9460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7536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58280" y="1273320"/>
              <a:ext cx="3250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45520" y="1273320"/>
              <a:ext cx="3236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2664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16680" y="353880"/>
              <a:ext cx="4394160" cy="286416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610240" y="1681200"/>
              <a:ext cx="3741480" cy="66600"/>
              <a:chOff x="5610240" y="1681200"/>
              <a:chExt cx="3741480" cy="66600"/>
            </a:xfrm>
          </p:grpSpPr>
          <p:sp>
            <p:nvSpPr>
              <p:cNvPr id="764" name=""/>
              <p:cNvSpPr/>
              <p:nvPr/>
            </p:nvSpPr>
            <p:spPr>
              <a:xfrm>
                <a:off x="5610240" y="168264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94600" y="168120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75360" y="168120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57920" y="1681200"/>
                <a:ext cx="325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45880" y="1681200"/>
                <a:ext cx="3232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027000" y="168120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5610240" y="207792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9460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536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58280" y="2076480"/>
              <a:ext cx="3250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45520" y="2076480"/>
              <a:ext cx="323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02664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10240" y="247320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9460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7536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58280" y="2471760"/>
              <a:ext cx="3250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45520" y="2471760"/>
              <a:ext cx="3236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02664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5610240" y="1271520"/>
              <a:ext cx="3741480" cy="66600"/>
              <a:chOff x="5610240" y="1271520"/>
              <a:chExt cx="3741480" cy="66600"/>
            </a:xfrm>
          </p:grpSpPr>
          <p:sp>
            <p:nvSpPr>
              <p:cNvPr id="783" name=""/>
              <p:cNvSpPr/>
              <p:nvPr/>
            </p:nvSpPr>
            <p:spPr>
              <a:xfrm>
                <a:off x="5610240" y="127296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94600" y="127152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75360" y="127152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57920" y="1271520"/>
                <a:ext cx="325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345880" y="1271520"/>
                <a:ext cx="3232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9027000" y="127152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9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790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471600" y="353880"/>
            <a:ext cx="4394160" cy="2864160"/>
            <a:chOff x="471600" y="353880"/>
            <a:chExt cx="4394160" cy="2864160"/>
          </a:xfrm>
        </p:grpSpPr>
        <p:sp>
          <p:nvSpPr>
            <p:cNvPr id="799" name=""/>
            <p:cNvSpPr/>
            <p:nvPr/>
          </p:nvSpPr>
          <p:spPr>
            <a:xfrm>
              <a:off x="965160" y="1274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952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3028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1320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00440" y="1273320"/>
              <a:ext cx="3240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81560" y="1273320"/>
              <a:ext cx="325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1600" y="353880"/>
              <a:ext cx="4394160" cy="286416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965160" y="1681200"/>
              <a:ext cx="3741480" cy="66600"/>
              <a:chOff x="965160" y="1681200"/>
              <a:chExt cx="3741480" cy="66600"/>
            </a:xfrm>
          </p:grpSpPr>
          <p:sp>
            <p:nvSpPr>
              <p:cNvPr id="807" name=""/>
              <p:cNvSpPr/>
              <p:nvPr/>
            </p:nvSpPr>
            <p:spPr>
              <a:xfrm>
                <a:off x="965160" y="168264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649520" y="168120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330280" y="168120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12840" y="1681200"/>
                <a:ext cx="325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00800" y="1681200"/>
                <a:ext cx="3232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81920" y="168120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965160" y="207792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4952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3028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320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700440" y="2076480"/>
              <a:ext cx="324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81560" y="207648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65160" y="247320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4952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3028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1320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00440" y="2471760"/>
              <a:ext cx="3240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381560" y="2471760"/>
              <a:ext cx="325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965160" y="1271520"/>
              <a:ext cx="3741480" cy="66600"/>
              <a:chOff x="965160" y="1271520"/>
              <a:chExt cx="3741480" cy="66600"/>
            </a:xfrm>
          </p:grpSpPr>
          <p:sp>
            <p:nvSpPr>
              <p:cNvPr id="826" name=""/>
              <p:cNvSpPr/>
              <p:nvPr/>
            </p:nvSpPr>
            <p:spPr>
              <a:xfrm>
                <a:off x="965160" y="127296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49520" y="127152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330280" y="127152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012840" y="1271520"/>
                <a:ext cx="3250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00800" y="1271520"/>
                <a:ext cx="32328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81920" y="1271520"/>
                <a:ext cx="32472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32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69800" y="3456000"/>
            <a:ext cx="4394160" cy="2863800"/>
          </a:xfrm>
          <a:prstGeom prst="roundRect">
            <a:avLst>
              <a:gd name="adj" fmla="val 10014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23760" y="43988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55920" y="439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84480" y="439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16280" y="439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51320" y="439740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79880" y="439740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923760" y="47973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55920" y="4795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84480" y="4795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16280" y="4795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451320" y="479592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79880" y="4795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3760" y="51832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555920" y="5181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84480" y="5181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816280" y="5181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451320" y="518148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079880" y="5181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23760" y="55879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55920" y="558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84480" y="558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6280" y="558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451320" y="558648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079880" y="55864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16680" y="3454560"/>
            <a:ext cx="4394160" cy="2863800"/>
          </a:xfrm>
          <a:prstGeom prst="roundRect">
            <a:avLst>
              <a:gd name="adj" fmla="val 10014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572080" y="44006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203880" y="43988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832440" y="439884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64600" y="43988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099280" y="439884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728200" y="439884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572080" y="479916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203880" y="47973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32440" y="479736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464600" y="47973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99280" y="479736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728200" y="479736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572080" y="51847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203880" y="51832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32440" y="518328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64600" y="51832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99280" y="518328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728200" y="518328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72080" y="5589720"/>
            <a:ext cx="300240" cy="6480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203880" y="55879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2" y="181"/>
                </a:lnTo>
                <a:lnTo>
                  <a:pt x="568" y="179"/>
                </a:lnTo>
                <a:lnTo>
                  <a:pt x="584" y="175"/>
                </a:lnTo>
                <a:lnTo>
                  <a:pt x="598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8" y="14"/>
                </a:lnTo>
                <a:lnTo>
                  <a:pt x="584" y="6"/>
                </a:lnTo>
                <a:lnTo>
                  <a:pt x="568" y="2"/>
                </a:lnTo>
                <a:lnTo>
                  <a:pt x="552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32440" y="5587920"/>
            <a:ext cx="3002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464600" y="5587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099280" y="5587920"/>
            <a:ext cx="29844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1" y="0"/>
                </a:moveTo>
                <a:lnTo>
                  <a:pt x="65" y="2"/>
                </a:lnTo>
                <a:lnTo>
                  <a:pt x="49" y="6"/>
                </a:lnTo>
                <a:lnTo>
                  <a:pt x="35" y="14"/>
                </a:lnTo>
                <a:lnTo>
                  <a:pt x="23" y="24"/>
                </a:lnTo>
                <a:lnTo>
                  <a:pt x="13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3" y="145"/>
                </a:lnTo>
                <a:lnTo>
                  <a:pt x="23" y="157"/>
                </a:lnTo>
                <a:lnTo>
                  <a:pt x="35" y="167"/>
                </a:lnTo>
                <a:lnTo>
                  <a:pt x="49" y="175"/>
                </a:lnTo>
                <a:lnTo>
                  <a:pt x="65" y="179"/>
                </a:lnTo>
                <a:lnTo>
                  <a:pt x="81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1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728200" y="5587920"/>
            <a:ext cx="299880" cy="65160"/>
          </a:xfrm>
          <a:custGeom>
            <a:avLst/>
            <a:gdLst/>
            <a:ahLst/>
            <a:rect l="l" t="t" r="r" b="b"/>
            <a:pathLst>
              <a:path w="633" h="181">
                <a:moveTo>
                  <a:pt x="82" y="0"/>
                </a:moveTo>
                <a:lnTo>
                  <a:pt x="66" y="2"/>
                </a:lnTo>
                <a:lnTo>
                  <a:pt x="50" y="6"/>
                </a:lnTo>
                <a:lnTo>
                  <a:pt x="36" y="14"/>
                </a:lnTo>
                <a:lnTo>
                  <a:pt x="24" y="24"/>
                </a:lnTo>
                <a:lnTo>
                  <a:pt x="14" y="36"/>
                </a:lnTo>
                <a:lnTo>
                  <a:pt x="6" y="49"/>
                </a:lnTo>
                <a:lnTo>
                  <a:pt x="2" y="65"/>
                </a:lnTo>
                <a:lnTo>
                  <a:pt x="0" y="81"/>
                </a:lnTo>
                <a:lnTo>
                  <a:pt x="0" y="99"/>
                </a:lnTo>
                <a:lnTo>
                  <a:pt x="2" y="115"/>
                </a:lnTo>
                <a:lnTo>
                  <a:pt x="6" y="131"/>
                </a:lnTo>
                <a:lnTo>
                  <a:pt x="14" y="145"/>
                </a:lnTo>
                <a:lnTo>
                  <a:pt x="24" y="157"/>
                </a:lnTo>
                <a:lnTo>
                  <a:pt x="36" y="167"/>
                </a:lnTo>
                <a:lnTo>
                  <a:pt x="50" y="175"/>
                </a:lnTo>
                <a:lnTo>
                  <a:pt x="66" y="179"/>
                </a:lnTo>
                <a:lnTo>
                  <a:pt x="82" y="181"/>
                </a:lnTo>
                <a:lnTo>
                  <a:pt x="551" y="181"/>
                </a:lnTo>
                <a:lnTo>
                  <a:pt x="567" y="179"/>
                </a:lnTo>
                <a:lnTo>
                  <a:pt x="583" y="175"/>
                </a:lnTo>
                <a:lnTo>
                  <a:pt x="597" y="167"/>
                </a:lnTo>
                <a:lnTo>
                  <a:pt x="609" y="157"/>
                </a:lnTo>
                <a:lnTo>
                  <a:pt x="619" y="145"/>
                </a:lnTo>
                <a:lnTo>
                  <a:pt x="627" y="131"/>
                </a:lnTo>
                <a:lnTo>
                  <a:pt x="631" y="115"/>
                </a:lnTo>
                <a:lnTo>
                  <a:pt x="633" y="99"/>
                </a:lnTo>
                <a:lnTo>
                  <a:pt x="633" y="81"/>
                </a:lnTo>
                <a:lnTo>
                  <a:pt x="631" y="65"/>
                </a:lnTo>
                <a:lnTo>
                  <a:pt x="627" y="49"/>
                </a:lnTo>
                <a:lnTo>
                  <a:pt x="619" y="36"/>
                </a:lnTo>
                <a:lnTo>
                  <a:pt x="609" y="24"/>
                </a:lnTo>
                <a:lnTo>
                  <a:pt x="597" y="14"/>
                </a:lnTo>
                <a:lnTo>
                  <a:pt x="583" y="6"/>
                </a:lnTo>
                <a:lnTo>
                  <a:pt x="567" y="2"/>
                </a:lnTo>
                <a:lnTo>
                  <a:pt x="551" y="0"/>
                </a:lnTo>
                <a:lnTo>
                  <a:pt x="82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88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469800" y="352440"/>
            <a:ext cx="4394160" cy="2863800"/>
            <a:chOff x="469800" y="352440"/>
            <a:chExt cx="4394160" cy="2863800"/>
          </a:xfrm>
        </p:grpSpPr>
        <p:sp>
          <p:nvSpPr>
            <p:cNvPr id="893" name=""/>
            <p:cNvSpPr/>
            <p:nvPr/>
          </p:nvSpPr>
          <p:spPr>
            <a:xfrm>
              <a:off x="46980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25200" y="1276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55736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8592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1772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52760" y="127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8132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25200" y="16747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57360" y="167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85920" y="167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7720" y="167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52760" y="16732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81320" y="167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25200" y="20700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57360" y="206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85920" y="206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7720" y="206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52760" y="20685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81320" y="206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25200" y="245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57360" y="245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85920" y="245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17720" y="245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52760" y="24541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81320" y="245412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116680" y="352440"/>
            <a:ext cx="4394160" cy="2863800"/>
            <a:chOff x="5116680" y="352440"/>
            <a:chExt cx="4394160" cy="2863800"/>
          </a:xfrm>
        </p:grpSpPr>
        <p:sp>
          <p:nvSpPr>
            <p:cNvPr id="919" name=""/>
            <p:cNvSpPr/>
            <p:nvPr/>
          </p:nvSpPr>
          <p:spPr>
            <a:xfrm>
              <a:off x="5116680" y="352440"/>
              <a:ext cx="4394160" cy="2863800"/>
            </a:xfrm>
            <a:prstGeom prst="roundRect">
              <a:avLst>
                <a:gd name="adj" fmla="val 10014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72080" y="12765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03880" y="127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32440" y="12747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6460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99280" y="12747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28200" y="12747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72080" y="167508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03880" y="16732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32440" y="16732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64600" y="167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99280" y="16732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728200" y="16732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72080" y="207036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03880" y="2068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32440" y="20685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64600" y="206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99280" y="20685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728200" y="20685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2080" y="245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03880" y="2454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32440" y="245448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64600" y="2454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99280" y="245448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728200" y="245448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4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946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084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925200" y="1282680"/>
              <a:ext cx="3455280" cy="1255680"/>
              <a:chOff x="925200" y="1282680"/>
              <a:chExt cx="3455280" cy="1255680"/>
            </a:xfrm>
          </p:grpSpPr>
          <p:sp>
            <p:nvSpPr>
              <p:cNvPr id="949" name=""/>
              <p:cNvSpPr/>
              <p:nvPr/>
            </p:nvSpPr>
            <p:spPr>
              <a:xfrm>
                <a:off x="92520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5570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1859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8162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45168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8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92520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5570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1859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8162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45168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8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2520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570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1859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8162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45168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8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2520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570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1859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8162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5168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08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974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772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5572440" y="1282680"/>
              <a:ext cx="3454920" cy="1255680"/>
              <a:chOff x="5572440" y="1282680"/>
              <a:chExt cx="3454920" cy="1255680"/>
            </a:xfrm>
          </p:grpSpPr>
          <p:sp>
            <p:nvSpPr>
              <p:cNvPr id="977" name=""/>
              <p:cNvSpPr/>
              <p:nvPr/>
            </p:nvSpPr>
            <p:spPr>
              <a:xfrm>
                <a:off x="5572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20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3280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63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856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7271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572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20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3280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463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9856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7271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572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20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83280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463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9856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7271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72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20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83280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463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09856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7271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1002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1005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9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030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27720" y="4056120"/>
              <a:ext cx="3765240" cy="16981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5572440" y="4395600"/>
              <a:ext cx="3454920" cy="1254960"/>
              <a:chOff x="5572440" y="4395600"/>
              <a:chExt cx="3454920" cy="1254960"/>
            </a:xfrm>
          </p:grpSpPr>
          <p:sp>
            <p:nvSpPr>
              <p:cNvPr id="1033" name=""/>
              <p:cNvSpPr/>
              <p:nvPr/>
            </p:nvSpPr>
            <p:spPr>
              <a:xfrm>
                <a:off x="5572440" y="43966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20424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83280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635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098560" y="439560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727120" y="43956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2440" y="479520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0424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83280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635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098560" y="479376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727120" y="4793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572440" y="519048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0424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83280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635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098560" y="518904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727120" y="518904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572440" y="558576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0424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83280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635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098560" y="5584320"/>
                <a:ext cx="2984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727120" y="5584320"/>
                <a:ext cx="300240" cy="6480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7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058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66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469800" y="352440"/>
            <a:ext cx="4393800" cy="2863800"/>
            <a:chOff x="469800" y="352440"/>
            <a:chExt cx="4393800" cy="2863800"/>
          </a:xfrm>
        </p:grpSpPr>
        <p:sp>
          <p:nvSpPr>
            <p:cNvPr id="1068" name=""/>
            <p:cNvSpPr/>
            <p:nvPr/>
          </p:nvSpPr>
          <p:spPr>
            <a:xfrm>
              <a:off x="46980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84080" y="952560"/>
              <a:ext cx="376524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928440" y="1282680"/>
              <a:ext cx="3455280" cy="1255680"/>
              <a:chOff x="928440" y="1282680"/>
              <a:chExt cx="3455280" cy="1255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92844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560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1891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952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5492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0834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92844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60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1891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1952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45492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0834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92844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560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1891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952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45492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0834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92844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560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1891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45492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0834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5116680" y="352440"/>
            <a:ext cx="4393800" cy="2863800"/>
            <a:chOff x="5116680" y="352440"/>
            <a:chExt cx="4393800" cy="2863800"/>
          </a:xfrm>
        </p:grpSpPr>
        <p:sp>
          <p:nvSpPr>
            <p:cNvPr id="1096" name=""/>
            <p:cNvSpPr/>
            <p:nvPr/>
          </p:nvSpPr>
          <p:spPr>
            <a:xfrm>
              <a:off x="5116680" y="35244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29160" y="952560"/>
              <a:ext cx="37656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573880" y="1282680"/>
              <a:ext cx="3454920" cy="1255680"/>
              <a:chOff x="5573880" y="1282680"/>
              <a:chExt cx="3454920" cy="1255680"/>
            </a:xfrm>
          </p:grpSpPr>
          <p:sp>
            <p:nvSpPr>
              <p:cNvPr id="1099" name=""/>
              <p:cNvSpPr/>
              <p:nvPr/>
            </p:nvSpPr>
            <p:spPr>
              <a:xfrm>
                <a:off x="5573880" y="12841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20568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83424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649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100000" y="12826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728560" y="12826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573880" y="168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0568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83424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649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100000" y="168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728560" y="168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73880" y="207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0568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3424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4649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100000" y="207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728560" y="207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573880" y="2473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0568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3424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4649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100000" y="24717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728560" y="24717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1124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80840" y="4057560"/>
              <a:ext cx="3765240" cy="169884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925200" y="4397400"/>
              <a:ext cx="3455280" cy="1255680"/>
              <a:chOff x="925200" y="4397400"/>
              <a:chExt cx="3455280" cy="1255680"/>
            </a:xfrm>
          </p:grpSpPr>
          <p:sp>
            <p:nvSpPr>
              <p:cNvPr id="1127" name=""/>
              <p:cNvSpPr/>
              <p:nvPr/>
            </p:nvSpPr>
            <p:spPr>
              <a:xfrm>
                <a:off x="92520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55700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18592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81628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451680" y="43974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080240" y="43974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92520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55700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18592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81628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451680" y="4795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080240" y="4795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92520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55700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18592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81628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451680" y="519120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080240" y="51912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92520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5700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18592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81628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451680" y="558648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80240" y="55864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1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152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29160" y="4059360"/>
              <a:ext cx="3765600" cy="16984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5573880" y="4398840"/>
              <a:ext cx="3454920" cy="1255680"/>
              <a:chOff x="5573880" y="4398840"/>
              <a:chExt cx="3454920" cy="1255680"/>
            </a:xfrm>
          </p:grpSpPr>
          <p:sp>
            <p:nvSpPr>
              <p:cNvPr id="1155" name=""/>
              <p:cNvSpPr/>
              <p:nvPr/>
            </p:nvSpPr>
            <p:spPr>
              <a:xfrm>
                <a:off x="5573880" y="44002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20568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83424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46496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100000" y="43988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728560" y="43988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73880" y="479880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20568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83424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6496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100000" y="479736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728560" y="4797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73880" y="519408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20568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83424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46496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100000" y="519264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728560" y="519264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73880" y="558936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0568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2" y="181"/>
                    </a:lnTo>
                    <a:lnTo>
                      <a:pt x="568" y="179"/>
                    </a:lnTo>
                    <a:lnTo>
                      <a:pt x="584" y="175"/>
                    </a:lnTo>
                    <a:lnTo>
                      <a:pt x="598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8" y="14"/>
                    </a:lnTo>
                    <a:lnTo>
                      <a:pt x="584" y="6"/>
                    </a:lnTo>
                    <a:lnTo>
                      <a:pt x="568" y="2"/>
                    </a:lnTo>
                    <a:lnTo>
                      <a:pt x="55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83424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46496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00000" y="5587920"/>
                <a:ext cx="2984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5" y="14"/>
                    </a:lnTo>
                    <a:lnTo>
                      <a:pt x="23" y="24"/>
                    </a:lnTo>
                    <a:lnTo>
                      <a:pt x="13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3" y="145"/>
                    </a:lnTo>
                    <a:lnTo>
                      <a:pt x="23" y="157"/>
                    </a:lnTo>
                    <a:lnTo>
                      <a:pt x="35" y="167"/>
                    </a:lnTo>
                    <a:lnTo>
                      <a:pt x="49" y="175"/>
                    </a:lnTo>
                    <a:lnTo>
                      <a:pt x="65" y="179"/>
                    </a:lnTo>
                    <a:lnTo>
                      <a:pt x="81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728560" y="5587920"/>
                <a:ext cx="300240" cy="65160"/>
              </a:xfrm>
              <a:custGeom>
                <a:avLst/>
                <a:gdLst/>
                <a:ahLst/>
                <a:rect l="l" t="t" r="r" b="b"/>
                <a:pathLst>
                  <a:path w="633" h="181">
                    <a:moveTo>
                      <a:pt x="82" y="0"/>
                    </a:moveTo>
                    <a:lnTo>
                      <a:pt x="66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99"/>
                    </a:lnTo>
                    <a:lnTo>
                      <a:pt x="2" y="115"/>
                    </a:lnTo>
                    <a:lnTo>
                      <a:pt x="6" y="131"/>
                    </a:lnTo>
                    <a:lnTo>
                      <a:pt x="14" y="145"/>
                    </a:lnTo>
                    <a:lnTo>
                      <a:pt x="24" y="157"/>
                    </a:lnTo>
                    <a:lnTo>
                      <a:pt x="36" y="167"/>
                    </a:lnTo>
                    <a:lnTo>
                      <a:pt x="50" y="175"/>
                    </a:lnTo>
                    <a:lnTo>
                      <a:pt x="66" y="179"/>
                    </a:lnTo>
                    <a:lnTo>
                      <a:pt x="82" y="181"/>
                    </a:lnTo>
                    <a:lnTo>
                      <a:pt x="551" y="181"/>
                    </a:lnTo>
                    <a:lnTo>
                      <a:pt x="567" y="179"/>
                    </a:lnTo>
                    <a:lnTo>
                      <a:pt x="583" y="175"/>
                    </a:lnTo>
                    <a:lnTo>
                      <a:pt x="597" y="167"/>
                    </a:lnTo>
                    <a:lnTo>
                      <a:pt x="609" y="157"/>
                    </a:lnTo>
                    <a:lnTo>
                      <a:pt x="619" y="145"/>
                    </a:lnTo>
                    <a:lnTo>
                      <a:pt x="627" y="131"/>
                    </a:lnTo>
                    <a:lnTo>
                      <a:pt x="631" y="115"/>
                    </a:lnTo>
                    <a:lnTo>
                      <a:pt x="633" y="99"/>
                    </a:lnTo>
                    <a:lnTo>
                      <a:pt x="633" y="81"/>
                    </a:lnTo>
                    <a:lnTo>
                      <a:pt x="631" y="65"/>
                    </a:lnTo>
                    <a:lnTo>
                      <a:pt x="627" y="49"/>
                    </a:lnTo>
                    <a:lnTo>
                      <a:pt x="619" y="36"/>
                    </a:lnTo>
                    <a:lnTo>
                      <a:pt x="609" y="24"/>
                    </a:lnTo>
                    <a:lnTo>
                      <a:pt x="597" y="14"/>
                    </a:lnTo>
                    <a:lnTo>
                      <a:pt x="583" y="6"/>
                    </a:lnTo>
                    <a:lnTo>
                      <a:pt x="567" y="2"/>
                    </a:lnTo>
                    <a:lnTo>
                      <a:pt x="5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9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180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88" name=""/>
          <p:cNvGraphicFramePr/>
          <p:nvPr/>
        </p:nvGraphicFramePr>
        <p:xfrm>
          <a:off x="77148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5-11-30T00:25:26Z</dcterms:modified>
  <cp:revision>105</cp:revision>
  <dc:subject/>
  <dc:title/>
</cp:coreProperties>
</file>