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A5E-6E4E-4389-BD9E-BDDBAA0F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750-A36E-4EDC-9625-FA1562A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A6D-D41D-4806-B258-051D508C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38F-D22B-4BB4-B7B5-D7C31EE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4DF-79D1-42E5-A817-6B1AAD8D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FE5-C125-4B9B-B33C-1418F786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800-D896-4049-80EE-9F0892E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47A-D9A9-467E-889A-D9C02AD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6D4-08AD-4A1A-A189-8B3F574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5D3-DC19-46B4-A447-FD8D29F7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6E5-D78B-4E80-A514-7EFB8DA6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CDC-C47C-42C5-A21E-B711B18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064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685800"/>
            <a:ext cx="9759600" cy="1052640"/>
            <a:chOff x="0" y="685800"/>
            <a:chExt cx="9759600" cy="1052640"/>
          </a:xfrm>
        </p:grpSpPr>
        <p:grpSp>
          <p:nvGrpSpPr>
            <p:cNvPr id="38" name=""/>
            <p:cNvGrpSpPr/>
            <p:nvPr/>
          </p:nvGrpSpPr>
          <p:grpSpPr>
            <a:xfrm>
              <a:off x="314640" y="793800"/>
              <a:ext cx="770040" cy="474840"/>
              <a:chOff x="314640" y="793800"/>
              <a:chExt cx="770040" cy="474840"/>
            </a:xfrm>
          </p:grpSpPr>
          <p:sp>
            <p:nvSpPr>
              <p:cNvPr id="39" name=""/>
              <p:cNvSpPr/>
              <p:nvPr/>
            </p:nvSpPr>
            <p:spPr>
              <a:xfrm>
                <a:off x="314640" y="79380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29360" y="79380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448560" y="1216080"/>
              <a:ext cx="798840" cy="474840"/>
              <a:chOff x="448560" y="1216080"/>
              <a:chExt cx="798840" cy="474840"/>
            </a:xfrm>
          </p:grpSpPr>
          <p:sp>
            <p:nvSpPr>
              <p:cNvPr id="42" name=""/>
              <p:cNvSpPr/>
              <p:nvPr/>
            </p:nvSpPr>
            <p:spPr>
              <a:xfrm>
                <a:off x="448560" y="121608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7800" y="121608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0" y="114300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7960" y="68580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42360" y="150804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280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CAB-9F9D-4B0D-AD2D-50B32427000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88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09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9800" y="3454560"/>
            <a:ext cx="4393800" cy="2863800"/>
            <a:chOff x="469800" y="3454560"/>
            <a:chExt cx="4393800" cy="2863800"/>
          </a:xfrm>
        </p:grpSpPr>
        <p:sp>
          <p:nvSpPr>
            <p:cNvPr id="130" name=""/>
            <p:cNvSpPr/>
            <p:nvPr/>
          </p:nvSpPr>
          <p:spPr>
            <a:xfrm>
              <a:off x="46980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51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29160" y="40593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73880" y="4400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60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3460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496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00360" y="4398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296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880" y="4799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60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3460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96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00360" y="4797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296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73880" y="5194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60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3460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496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00360" y="519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296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72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0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926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8084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573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8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1664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5204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80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2520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573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859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1664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5204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80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2520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573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859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1664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5204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80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947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968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8084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5573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859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166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5204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809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2520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573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859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166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5204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809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520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573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859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166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5204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809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989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01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18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1020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041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1062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083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10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12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1114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084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573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8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1664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5204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80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2520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573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859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664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5204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0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2520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573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1859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81664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5204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80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135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1156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8084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573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859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166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45204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809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520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573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59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166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45204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809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2520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573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859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166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5204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809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177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174eff"/>
                </a:gs>
                <a:gs pos="50000">
                  <a:srgbClr val="e1ffff"/>
                </a:gs>
                <a:gs pos="100000">
                  <a:srgbClr val="174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198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3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6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7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1208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229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1250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271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gradFill rotWithShape="0">
              <a:gsLst>
                <a:gs pos="0">
                  <a:srgbClr val="b7ffb7"/>
                </a:gs>
                <a:gs pos="50000">
                  <a:srgbClr val="ffff99"/>
                </a:gs>
                <a:gs pos="100000">
                  <a:srgbClr val="b7ff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292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7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1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1302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1323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1344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1365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138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94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182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203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224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245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26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74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276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084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2520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573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859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664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5204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0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2520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573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859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664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204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80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520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573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59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664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5204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80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297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318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084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573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59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166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5204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809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2520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73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859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66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5204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809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2520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573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859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66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5204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09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339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360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8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473040" y="353880"/>
            <a:ext cx="4394160" cy="2864160"/>
            <a:chOff x="473040" y="353880"/>
            <a:chExt cx="4394160" cy="2864160"/>
          </a:xfrm>
        </p:grpSpPr>
        <p:sp>
          <p:nvSpPr>
            <p:cNvPr id="370" name=""/>
            <p:cNvSpPr/>
            <p:nvPr/>
          </p:nvSpPr>
          <p:spPr>
            <a:xfrm>
              <a:off x="473040" y="353880"/>
              <a:ext cx="439416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3360" y="9525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19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5280" y="129240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84200" y="1292400"/>
              <a:ext cx="29880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19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5280" y="16812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84200" y="168120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9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5280" y="208584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84200" y="2085840"/>
              <a:ext cx="29880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391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29160" y="9525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388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060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3460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64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003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7388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060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3460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4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003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96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7388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060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3460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64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003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296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69800" y="3454560"/>
            <a:ext cx="4393800" cy="2863800"/>
            <a:chOff x="469800" y="3454560"/>
            <a:chExt cx="4393800" cy="2863800"/>
          </a:xfrm>
        </p:grpSpPr>
        <p:sp>
          <p:nvSpPr>
            <p:cNvPr id="412" name=""/>
            <p:cNvSpPr/>
            <p:nvPr/>
          </p:nvSpPr>
          <p:spPr>
            <a:xfrm>
              <a:off x="46980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433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29160" y="40593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3880" y="4400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060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3460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6496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00360" y="4398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296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3880" y="4799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060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3460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6496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00360" y="4797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296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73880" y="5194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60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3460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496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0360" y="519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296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45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62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464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484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504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524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54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2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554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574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594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614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634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42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473040" y="353880"/>
            <a:ext cx="4393800" cy="2864160"/>
            <a:chOff x="473040" y="353880"/>
            <a:chExt cx="4393800" cy="2864160"/>
          </a:xfrm>
        </p:grpSpPr>
        <p:sp>
          <p:nvSpPr>
            <p:cNvPr id="644" name=""/>
            <p:cNvSpPr/>
            <p:nvPr/>
          </p:nvSpPr>
          <p:spPr>
            <a:xfrm>
              <a:off x="47304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665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2772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7244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42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3316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635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985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7278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7244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042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3316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635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985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7278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7244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042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3316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635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985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7278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73040" y="3456000"/>
            <a:ext cx="4393800" cy="2863800"/>
            <a:chOff x="473040" y="3456000"/>
            <a:chExt cx="4393800" cy="2863800"/>
          </a:xfrm>
        </p:grpSpPr>
        <p:sp>
          <p:nvSpPr>
            <p:cNvPr id="686" name=""/>
            <p:cNvSpPr/>
            <p:nvPr/>
          </p:nvSpPr>
          <p:spPr>
            <a:xfrm>
              <a:off x="47304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408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2844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606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891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1988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5528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842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2844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606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891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88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5528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842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2844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606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891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1988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5528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842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707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728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36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469800" y="353880"/>
            <a:ext cx="4393800" cy="2864160"/>
            <a:chOff x="469800" y="353880"/>
            <a:chExt cx="4393800" cy="2864160"/>
          </a:xfrm>
        </p:grpSpPr>
        <p:sp>
          <p:nvSpPr>
            <p:cNvPr id="738" name=""/>
            <p:cNvSpPr/>
            <p:nvPr/>
          </p:nvSpPr>
          <p:spPr>
            <a:xfrm>
              <a:off x="46980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4080" y="952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2844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606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891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1988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5528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842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2844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606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891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1988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5528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842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2844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606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891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1988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5528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842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759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29160" y="9525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7388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60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460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4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1003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296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7388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60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3460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64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003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7296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7388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060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3460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64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003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296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69800" y="3456000"/>
            <a:ext cx="4393800" cy="2863800"/>
            <a:chOff x="469800" y="3456000"/>
            <a:chExt cx="4393800" cy="2863800"/>
          </a:xfrm>
        </p:grpSpPr>
        <p:sp>
          <p:nvSpPr>
            <p:cNvPr id="780" name=""/>
            <p:cNvSpPr/>
            <p:nvPr/>
          </p:nvSpPr>
          <p:spPr>
            <a:xfrm>
              <a:off x="469800" y="345600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084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2520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573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59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66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5204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8096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2520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573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859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166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5204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8096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2520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573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859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166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5204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8096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801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29160" y="40593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73880" y="4400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060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3460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6496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00360" y="4398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729640" y="4398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73880" y="479916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060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3460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6496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00360" y="479736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729640" y="479736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73880" y="519444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060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3460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6496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00360" y="51926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729640" y="519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822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30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473040" y="352440"/>
            <a:ext cx="4394160" cy="2863800"/>
            <a:chOff x="473040" y="352440"/>
            <a:chExt cx="4394160" cy="2863800"/>
          </a:xfrm>
        </p:grpSpPr>
        <p:sp>
          <p:nvSpPr>
            <p:cNvPr id="832" name=""/>
            <p:cNvSpPr/>
            <p:nvPr/>
          </p:nvSpPr>
          <p:spPr>
            <a:xfrm>
              <a:off x="473040" y="352440"/>
              <a:ext cx="439416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6240" y="952560"/>
              <a:ext cx="376668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31680" y="1293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6384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9240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2312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9240" y="1292400"/>
              <a:ext cx="29772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88520" y="1292400"/>
              <a:ext cx="29916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31680" y="168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6384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19240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2312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59240" y="168120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88520" y="168120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31680" y="2087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6384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9240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2312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59240" y="2085840"/>
              <a:ext cx="29772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88520" y="2085840"/>
              <a:ext cx="29916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116680" y="353880"/>
            <a:ext cx="4393800" cy="2864160"/>
            <a:chOff x="5116680" y="353880"/>
            <a:chExt cx="4393800" cy="2864160"/>
          </a:xfrm>
        </p:grpSpPr>
        <p:sp>
          <p:nvSpPr>
            <p:cNvPr id="853" name=""/>
            <p:cNvSpPr/>
            <p:nvPr/>
          </p:nvSpPr>
          <p:spPr>
            <a:xfrm>
              <a:off x="5116680" y="353880"/>
              <a:ext cx="4393800" cy="2864160"/>
            </a:xfrm>
            <a:prstGeom prst="roundRect">
              <a:avLst>
                <a:gd name="adj" fmla="val 10014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29160" y="952560"/>
              <a:ext cx="376560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73880" y="1293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2060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3460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64960" y="1292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00360" y="1292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729640" y="1292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3880" y="1682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060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3460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64960" y="168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100360" y="168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729640" y="168120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3880" y="20876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060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3460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64960" y="2085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100360" y="208584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729640" y="2085840"/>
              <a:ext cx="29988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73040" y="3454560"/>
            <a:ext cx="4393800" cy="2863800"/>
            <a:chOff x="473040" y="3454560"/>
            <a:chExt cx="4393800" cy="2863800"/>
          </a:xfrm>
        </p:grpSpPr>
        <p:sp>
          <p:nvSpPr>
            <p:cNvPr id="874" name=""/>
            <p:cNvSpPr/>
            <p:nvPr/>
          </p:nvSpPr>
          <p:spPr>
            <a:xfrm>
              <a:off x="47304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87320" y="4057560"/>
              <a:ext cx="3765240" cy="133668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31680" y="43988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638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9240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2312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58520" y="43974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087440" y="43974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1680" y="479736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5638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240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2312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8520" y="479592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087440" y="479592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31680" y="519264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638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9240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2312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58520" y="5191200"/>
              <a:ext cx="2984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87440" y="5191200"/>
              <a:ext cx="300240" cy="6516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116680" y="3454560"/>
            <a:ext cx="4393800" cy="2863800"/>
            <a:chOff x="5116680" y="3454560"/>
            <a:chExt cx="4393800" cy="2863800"/>
          </a:xfrm>
        </p:grpSpPr>
        <p:sp>
          <p:nvSpPr>
            <p:cNvPr id="895" name=""/>
            <p:cNvSpPr/>
            <p:nvPr/>
          </p:nvSpPr>
          <p:spPr>
            <a:xfrm>
              <a:off x="5116680" y="3454560"/>
              <a:ext cx="4393800" cy="2863800"/>
            </a:xfrm>
            <a:prstGeom prst="roundRect">
              <a:avLst>
                <a:gd name="adj" fmla="val 1001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27720" y="4056120"/>
              <a:ext cx="3765240" cy="1336320"/>
            </a:xfrm>
            <a:prstGeom prst="roundRect">
              <a:avLst>
                <a:gd name="adj" fmla="val 6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72440" y="4397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042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3316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3520" y="43956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098560" y="43956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727840" y="43956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72440" y="479592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042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3316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63520" y="479412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98560" y="479412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727840" y="479412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72440" y="5191200"/>
              <a:ext cx="299880" cy="6444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042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2" y="181"/>
                  </a:lnTo>
                  <a:lnTo>
                    <a:pt x="568" y="179"/>
                  </a:lnTo>
                  <a:lnTo>
                    <a:pt x="584" y="175"/>
                  </a:lnTo>
                  <a:lnTo>
                    <a:pt x="598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8" y="14"/>
                  </a:lnTo>
                  <a:lnTo>
                    <a:pt x="584" y="6"/>
                  </a:lnTo>
                  <a:lnTo>
                    <a:pt x="568" y="2"/>
                  </a:lnTo>
                  <a:lnTo>
                    <a:pt x="55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3316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63520" y="5189400"/>
              <a:ext cx="3002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098560" y="5189400"/>
              <a:ext cx="29844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1" y="0"/>
                  </a:moveTo>
                  <a:lnTo>
                    <a:pt x="65" y="2"/>
                  </a:lnTo>
                  <a:lnTo>
                    <a:pt x="49" y="6"/>
                  </a:lnTo>
                  <a:lnTo>
                    <a:pt x="35" y="14"/>
                  </a:lnTo>
                  <a:lnTo>
                    <a:pt x="23" y="24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3" y="145"/>
                  </a:lnTo>
                  <a:lnTo>
                    <a:pt x="23" y="157"/>
                  </a:lnTo>
                  <a:lnTo>
                    <a:pt x="35" y="167"/>
                  </a:lnTo>
                  <a:lnTo>
                    <a:pt x="49" y="175"/>
                  </a:lnTo>
                  <a:lnTo>
                    <a:pt x="65" y="179"/>
                  </a:lnTo>
                  <a:lnTo>
                    <a:pt x="81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727840" y="5189400"/>
              <a:ext cx="299880" cy="64800"/>
            </a:xfrm>
            <a:custGeom>
              <a:avLst/>
              <a:gdLst/>
              <a:ahLst/>
              <a:rect l="l" t="t" r="r" b="b"/>
              <a:pathLst>
                <a:path w="633" h="181">
                  <a:moveTo>
                    <a:pt x="82" y="0"/>
                  </a:moveTo>
                  <a:lnTo>
                    <a:pt x="66" y="2"/>
                  </a:lnTo>
                  <a:lnTo>
                    <a:pt x="50" y="6"/>
                  </a:lnTo>
                  <a:lnTo>
                    <a:pt x="36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6" y="49"/>
                  </a:lnTo>
                  <a:lnTo>
                    <a:pt x="2" y="65"/>
                  </a:lnTo>
                  <a:lnTo>
                    <a:pt x="0" y="81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6" y="131"/>
                  </a:lnTo>
                  <a:lnTo>
                    <a:pt x="14" y="145"/>
                  </a:lnTo>
                  <a:lnTo>
                    <a:pt x="24" y="157"/>
                  </a:lnTo>
                  <a:lnTo>
                    <a:pt x="36" y="167"/>
                  </a:lnTo>
                  <a:lnTo>
                    <a:pt x="50" y="175"/>
                  </a:lnTo>
                  <a:lnTo>
                    <a:pt x="66" y="179"/>
                  </a:lnTo>
                  <a:lnTo>
                    <a:pt x="82" y="181"/>
                  </a:lnTo>
                  <a:lnTo>
                    <a:pt x="551" y="181"/>
                  </a:lnTo>
                  <a:lnTo>
                    <a:pt x="567" y="179"/>
                  </a:lnTo>
                  <a:lnTo>
                    <a:pt x="583" y="175"/>
                  </a:lnTo>
                  <a:lnTo>
                    <a:pt x="597" y="167"/>
                  </a:lnTo>
                  <a:lnTo>
                    <a:pt x="609" y="157"/>
                  </a:lnTo>
                  <a:lnTo>
                    <a:pt x="619" y="145"/>
                  </a:lnTo>
                  <a:lnTo>
                    <a:pt x="627" y="131"/>
                  </a:lnTo>
                  <a:lnTo>
                    <a:pt x="631" y="115"/>
                  </a:lnTo>
                  <a:lnTo>
                    <a:pt x="633" y="99"/>
                  </a:lnTo>
                  <a:lnTo>
                    <a:pt x="633" y="81"/>
                  </a:lnTo>
                  <a:lnTo>
                    <a:pt x="631" y="65"/>
                  </a:lnTo>
                  <a:lnTo>
                    <a:pt x="627" y="49"/>
                  </a:lnTo>
                  <a:lnTo>
                    <a:pt x="619" y="36"/>
                  </a:lnTo>
                  <a:lnTo>
                    <a:pt x="609" y="24"/>
                  </a:lnTo>
                  <a:lnTo>
                    <a:pt x="597" y="14"/>
                  </a:lnTo>
                  <a:lnTo>
                    <a:pt x="583" y="6"/>
                  </a:lnTo>
                  <a:lnTo>
                    <a:pt x="567" y="2"/>
                  </a:lnTo>
                  <a:lnTo>
                    <a:pt x="55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8085240" y="14400"/>
            <a:ext cx="1570680" cy="370080"/>
            <a:chOff x="8085240" y="14400"/>
            <a:chExt cx="1570680" cy="370080"/>
          </a:xfrm>
        </p:grpSpPr>
        <p:sp>
          <p:nvSpPr>
            <p:cNvPr id="916" name=""/>
            <p:cNvSpPr/>
            <p:nvPr/>
          </p:nvSpPr>
          <p:spPr>
            <a:xfrm>
              <a:off x="8085240" y="108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新型ＧＸ（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9228960" y="14400"/>
              <a:ext cx="426960" cy="328680"/>
              <a:chOff x="9228960" y="14400"/>
              <a:chExt cx="426960" cy="32868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9228960" y="14400"/>
                <a:ext cx="426960" cy="301320"/>
                <a:chOff x="9228960" y="14400"/>
                <a:chExt cx="426960" cy="30132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9228960" y="116280"/>
                  <a:ext cx="335520" cy="19944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18905400">
                  <a:off x="9521280" y="21960"/>
                  <a:ext cx="90000" cy="163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9506880" y="114480"/>
                <a:ext cx="53280" cy="507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9280080" y="115920"/>
                <a:ext cx="329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Times New Roman"/>
                  </a:rPr>
                  <a:t>上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9333720" y="163440"/>
                <a:ext cx="0" cy="100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24" name=""/>
          <p:cNvGraphicFramePr/>
          <p:nvPr/>
        </p:nvGraphicFramePr>
        <p:xfrm>
          <a:off x="790560" y="1039680"/>
          <a:ext cx="8391600" cy="4703760"/>
        </p:xfrm>
        <a:graphic>
          <a:graphicData uri="http://schemas.openxmlformats.org/drawingml/2006/table">
            <a:tbl>
              <a:tblPr/>
              <a:tblGrid>
                <a:gridCol w="615960"/>
                <a:gridCol w="627120"/>
                <a:gridCol w="623880"/>
                <a:gridCol w="638280"/>
                <a:gridCol w="619200"/>
                <a:gridCol w="647640"/>
                <a:gridCol w="847800"/>
                <a:gridCol w="609480"/>
                <a:gridCol w="638280"/>
                <a:gridCol w="628560"/>
                <a:gridCol w="638280"/>
                <a:gridCol w="609480"/>
                <a:gridCol w="647640"/>
              </a:tblGrid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3:24:47Z</dcterms:created>
  <dc:creator/>
  <dc:description/>
  <dc:language>en-US</dc:language>
  <cp:lastModifiedBy/>
  <cp:lastPrinted>2001-05-08T06:29:51Z</cp:lastPrinted>
  <dcterms:modified xsi:type="dcterms:W3CDTF">2005-11-30T00:25:16Z</dcterms:modified>
  <cp:revision>109</cp:revision>
  <dc:subject/>
  <dc:title/>
</cp:coreProperties>
</file>