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D75A-1F0A-4C7D-9734-A71A49EA3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BD5B-64AB-4453-BB8D-82BBE75F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9481-AF7F-4883-83EB-46C9F36F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6552-8BBD-4BC3-8535-09F46A6C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BC01-A2F8-452E-BF2A-4214E854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9910-3BE0-40F6-9D7C-09A87DB6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56DC-E063-48C0-98F9-B444FADA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EE0B-8F60-410F-A39B-E2325B26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3B79-BF67-4F55-81D2-75D2566B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5FC6-1255-4C7B-82C7-9DB2696F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A8AA-6D47-4A33-8303-B156DD2A6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D5E5-9B29-4640-A64D-5422FA03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90640" y="-5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"/>
          <p:cNvGrpSpPr/>
          <p:nvPr/>
        </p:nvGrpSpPr>
        <p:grpSpPr>
          <a:xfrm>
            <a:off x="0" y="685800"/>
            <a:ext cx="9759600" cy="1052640"/>
            <a:chOff x="0" y="685800"/>
            <a:chExt cx="9759600" cy="1052640"/>
          </a:xfrm>
        </p:grpSpPr>
        <p:grpSp>
          <p:nvGrpSpPr>
            <p:cNvPr id="38" name=""/>
            <p:cNvGrpSpPr/>
            <p:nvPr/>
          </p:nvGrpSpPr>
          <p:grpSpPr>
            <a:xfrm>
              <a:off x="314640" y="793800"/>
              <a:ext cx="770040" cy="474840"/>
              <a:chOff x="314640" y="793800"/>
              <a:chExt cx="770040" cy="474840"/>
            </a:xfrm>
          </p:grpSpPr>
          <p:sp>
            <p:nvSpPr>
              <p:cNvPr id="39" name=""/>
              <p:cNvSpPr/>
              <p:nvPr/>
            </p:nvSpPr>
            <p:spPr>
              <a:xfrm>
                <a:off x="314640" y="793800"/>
                <a:ext cx="4737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729360" y="793800"/>
                <a:ext cx="355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" name=""/>
            <p:cNvGrpSpPr/>
            <p:nvPr/>
          </p:nvGrpSpPr>
          <p:grpSpPr>
            <a:xfrm>
              <a:off x="448560" y="1216080"/>
              <a:ext cx="798840" cy="474840"/>
              <a:chOff x="448560" y="1216080"/>
              <a:chExt cx="798840" cy="474840"/>
            </a:xfrm>
          </p:grpSpPr>
          <p:sp>
            <p:nvSpPr>
              <p:cNvPr id="42" name=""/>
              <p:cNvSpPr/>
              <p:nvPr/>
            </p:nvSpPr>
            <p:spPr>
              <a:xfrm>
                <a:off x="448560" y="1216080"/>
                <a:ext cx="45648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47800" y="1216080"/>
                <a:ext cx="3996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" name=""/>
            <p:cNvSpPr/>
            <p:nvPr/>
          </p:nvSpPr>
          <p:spPr>
            <a:xfrm>
              <a:off x="0" y="1143000"/>
              <a:ext cx="6069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87960" y="685800"/>
              <a:ext cx="3420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342360" y="1508040"/>
              <a:ext cx="941724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72800" y="759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10728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371448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3"/>
          </p:nvPr>
        </p:nvSpPr>
        <p:spPr>
          <a:xfrm>
            <a:off x="742968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07B8-F7D9-4B93-B51D-3705829EF758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5116680" y="352440"/>
            <a:ext cx="4394160" cy="2863800"/>
            <a:chOff x="5116680" y="352440"/>
            <a:chExt cx="4394160" cy="2863800"/>
          </a:xfrm>
        </p:grpSpPr>
        <p:sp>
          <p:nvSpPr>
            <p:cNvPr id="88" name=""/>
            <p:cNvSpPr/>
            <p:nvPr/>
          </p:nvSpPr>
          <p:spPr>
            <a:xfrm>
              <a:off x="5116680" y="352440"/>
              <a:ext cx="439416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75320" y="131616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207120" y="1314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36040" y="13143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67840" y="13143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102880" y="131436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731440" y="13143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75320" y="1724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07120" y="17226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36040" y="17226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67840" y="17226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102880" y="17226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731440" y="17226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75320" y="20908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07120" y="20890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36040" y="20890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67840" y="20890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2880" y="208908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731440" y="20890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75320" y="24764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07120" y="24750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6040" y="24750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67840" y="24750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02880" y="24750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731440" y="24750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40320" y="10303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40320" y="142380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40320" y="184140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40320" y="22399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40320" y="26337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40320" y="63648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75320" y="29019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07120" y="290052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36040" y="29005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67840" y="29005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102880" y="290052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731440" y="29005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75320" y="904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07120" y="903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36040" y="9032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67840" y="9032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102880" y="9032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731440" y="9032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69800" y="352440"/>
            <a:ext cx="4394160" cy="2863800"/>
            <a:chOff x="469800" y="352440"/>
            <a:chExt cx="4394160" cy="2863800"/>
          </a:xfrm>
        </p:grpSpPr>
        <p:sp>
          <p:nvSpPr>
            <p:cNvPr id="132" name=""/>
            <p:cNvSpPr/>
            <p:nvPr/>
          </p:nvSpPr>
          <p:spPr>
            <a:xfrm>
              <a:off x="469800" y="352440"/>
              <a:ext cx="439416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28440" y="131616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60240" y="1314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88800" y="1314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20960" y="13143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55640" y="131436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84560" y="13143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28440" y="1724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60240" y="17226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88800" y="17226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20960" y="17226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55640" y="17226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84560" y="17226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28440" y="20908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60240" y="20890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88800" y="20890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20960" y="20890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55640" y="208908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84560" y="20890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28440" y="24764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60240" y="24750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88800" y="24750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20960" y="24750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455640" y="24750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84560" y="24750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93440" y="10303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3440" y="142380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3440" y="184140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3440" y="22399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3440" y="26337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3440" y="63648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28440" y="29019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60240" y="290052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88800" y="290052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20960" y="29005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55640" y="290052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84560" y="29005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28440" y="904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60240" y="903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88800" y="903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20960" y="9032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55640" y="9032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84560" y="9032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69800" y="3454560"/>
            <a:ext cx="4394160" cy="2863800"/>
          </a:xfrm>
          <a:prstGeom prst="roundRect">
            <a:avLst>
              <a:gd name="adj" fmla="val 10014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36720" y="438948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68520" y="438768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97080" y="438768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28880" y="438768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63920" y="4387680"/>
            <a:ext cx="2984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92480" y="438768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36720" y="478800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68520" y="478620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97080" y="478620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28880" y="478620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63920" y="4786200"/>
            <a:ext cx="2984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92480" y="478620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36720" y="517356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68520" y="517212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97080" y="517212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28880" y="517212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63920" y="5172120"/>
            <a:ext cx="2984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92480" y="517212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36720" y="556884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68520" y="556740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97080" y="556740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28880" y="556740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63920" y="5567400"/>
            <a:ext cx="2984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92480" y="556740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1720" y="4141800"/>
            <a:ext cx="3746520" cy="15876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01720" y="4545000"/>
            <a:ext cx="3746520" cy="15876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1720" y="4933800"/>
            <a:ext cx="3746520" cy="15876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1720" y="5332320"/>
            <a:ext cx="3746520" cy="15876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1720" y="5726160"/>
            <a:ext cx="3746520" cy="15876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1720" y="3747960"/>
            <a:ext cx="3746520" cy="15876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36720" y="596592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68520" y="596412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97080" y="596412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28880" y="596412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63920" y="5964120"/>
            <a:ext cx="2984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92480" y="596412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36720" y="3997440"/>
            <a:ext cx="299880" cy="6480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68520" y="399564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97080" y="399564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28880" y="399564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63920" y="3995640"/>
            <a:ext cx="2984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92480" y="399564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219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7" name=""/>
          <p:cNvGrpSpPr/>
          <p:nvPr/>
        </p:nvGrpSpPr>
        <p:grpSpPr>
          <a:xfrm>
            <a:off x="5116680" y="3456000"/>
            <a:ext cx="4394160" cy="2863800"/>
            <a:chOff x="5116680" y="3456000"/>
            <a:chExt cx="4394160" cy="2863800"/>
          </a:xfrm>
        </p:grpSpPr>
        <p:sp>
          <p:nvSpPr>
            <p:cNvPr id="228" name=""/>
            <p:cNvSpPr/>
            <p:nvPr/>
          </p:nvSpPr>
          <p:spPr>
            <a:xfrm>
              <a:off x="5116680" y="3456000"/>
              <a:ext cx="439416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75320" y="441972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07120" y="4417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36040" y="44179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467840" y="44179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102880" y="441792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731440" y="44179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75320" y="4827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07120" y="482616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36040" y="482616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67840" y="482616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102880" y="482616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731440" y="482616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575320" y="51944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07120" y="5192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36040" y="5192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467840" y="5192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102880" y="51926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31440" y="5192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75320" y="55800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207120" y="55785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36040" y="55785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467840" y="55785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102880" y="557856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731440" y="55785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0320" y="413388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40320" y="45273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40320" y="49449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40320" y="534348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40320" y="57373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440320" y="374004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75320" y="60055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07120" y="60040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36040" y="600408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467840" y="600408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102880" y="600408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731440" y="600408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575320" y="4008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07120" y="40068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36040" y="40068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67840" y="40068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02880" y="40068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731440" y="40068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71" name=""/>
          <p:cNvGraphicFramePr/>
          <p:nvPr/>
        </p:nvGraphicFramePr>
        <p:xfrm>
          <a:off x="790560" y="638280"/>
          <a:ext cx="8381880" cy="550548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8840"/>
                <a:gridCol w="648000"/>
                <a:gridCol w="857160"/>
                <a:gridCol w="619200"/>
                <a:gridCol w="618840"/>
                <a:gridCol w="628920"/>
                <a:gridCol w="637920"/>
                <a:gridCol w="609840"/>
                <a:gridCol w="637920"/>
              </a:tblGrid>
              <a:tr h="409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8" name=""/>
          <p:cNvGrpSpPr/>
          <p:nvPr/>
        </p:nvGrpSpPr>
        <p:grpSpPr>
          <a:xfrm>
            <a:off x="469800" y="3454560"/>
            <a:ext cx="4394160" cy="2863800"/>
            <a:chOff x="469800" y="3454560"/>
            <a:chExt cx="4394160" cy="2863800"/>
          </a:xfrm>
        </p:grpSpPr>
        <p:sp>
          <p:nvSpPr>
            <p:cNvPr id="1719" name=""/>
            <p:cNvSpPr/>
            <p:nvPr/>
          </p:nvSpPr>
          <p:spPr>
            <a:xfrm>
              <a:off x="469800" y="3454560"/>
              <a:ext cx="439416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925200" y="4387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55700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18556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81592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452400" y="438624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081320" y="43862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925200" y="4786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55700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18556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81592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3452400" y="478476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081320" y="478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925200" y="5181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55700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18556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281592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452400" y="518004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081320" y="51800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925200" y="556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55700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18556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81592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3452400" y="556560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081320" y="5565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90200" y="41403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90200" y="45435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90200" y="49323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790200" y="533088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790200" y="57243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790200" y="37465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925200" y="59641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55700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18556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81592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3452400" y="596268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081320" y="5962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925200" y="3995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55700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218556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81592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3452400" y="399420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081320" y="3994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2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1763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4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1765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1766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8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1" name=""/>
          <p:cNvGrpSpPr/>
          <p:nvPr/>
        </p:nvGrpSpPr>
        <p:grpSpPr>
          <a:xfrm>
            <a:off x="469800" y="353880"/>
            <a:ext cx="4394160" cy="2864160"/>
            <a:chOff x="469800" y="353880"/>
            <a:chExt cx="4394160" cy="2864160"/>
          </a:xfrm>
        </p:grpSpPr>
        <p:sp>
          <p:nvSpPr>
            <p:cNvPr id="1772" name=""/>
            <p:cNvSpPr/>
            <p:nvPr/>
          </p:nvSpPr>
          <p:spPr>
            <a:xfrm>
              <a:off x="469800" y="353880"/>
              <a:ext cx="4394160" cy="2864160"/>
            </a:xfrm>
            <a:prstGeom prst="roundRect">
              <a:avLst>
                <a:gd name="adj" fmla="val 10014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925200" y="1692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557000" y="16905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185560" y="16905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815920" y="16905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452400" y="169056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081320" y="16905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925200" y="2077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557000" y="2076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185560" y="2076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815920" y="2076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3452400" y="207648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081320" y="20764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90200" y="102060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790200" y="141444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790200" y="18129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90200" y="221148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790200" y="26049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790200" y="6271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925200" y="28828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557000" y="28814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185560" y="28814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815920" y="28814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452400" y="2881440"/>
              <a:ext cx="29700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4079520" y="28814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925200" y="8953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557000" y="8938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2185560" y="8938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815920" y="8938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452400" y="893880"/>
              <a:ext cx="29700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079520" y="8938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925200" y="1293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55700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18556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81592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452400" y="1292400"/>
              <a:ext cx="29700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07952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925200" y="2473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557000" y="2471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185560" y="2471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2815920" y="2471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3452400" y="247176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079520" y="2471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5" name=""/>
          <p:cNvGrpSpPr/>
          <p:nvPr/>
        </p:nvGrpSpPr>
        <p:grpSpPr>
          <a:xfrm>
            <a:off x="5116680" y="352440"/>
            <a:ext cx="4394160" cy="2863800"/>
            <a:chOff x="5116680" y="352440"/>
            <a:chExt cx="4394160" cy="2863800"/>
          </a:xfrm>
        </p:grpSpPr>
        <p:sp>
          <p:nvSpPr>
            <p:cNvPr id="1816" name=""/>
            <p:cNvSpPr/>
            <p:nvPr/>
          </p:nvSpPr>
          <p:spPr>
            <a:xfrm>
              <a:off x="5116680" y="352440"/>
              <a:ext cx="439416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572440" y="16905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6204240" y="16891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832800" y="16891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7463160" y="16891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8099640" y="168912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8728200" y="16891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572440" y="20764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204240" y="207504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832800" y="20750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7463160" y="207504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8099640" y="2075040"/>
              <a:ext cx="29700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8728200" y="20750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437440" y="10191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437440" y="141300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437440" y="18111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437440" y="220968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437440" y="26035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437440" y="6253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5572440" y="288144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204240" y="2879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832800" y="2879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463160" y="2879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8099640" y="287964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8726760" y="2879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572440" y="89388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204240" y="8920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832800" y="8920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7463160" y="8920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8099640" y="89208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8726760" y="8920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57244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204240" y="1290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832800" y="1290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7463160" y="1290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8099640" y="129060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8726760" y="1290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572440" y="2471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204240" y="24703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832800" y="247032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7463160" y="24703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8099640" y="2470320"/>
              <a:ext cx="29700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8726760" y="247032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9" name=""/>
          <p:cNvGrpSpPr/>
          <p:nvPr/>
        </p:nvGrpSpPr>
        <p:grpSpPr>
          <a:xfrm>
            <a:off x="5116680" y="3454560"/>
            <a:ext cx="4394160" cy="2863800"/>
            <a:chOff x="5116680" y="3454560"/>
            <a:chExt cx="4394160" cy="2863800"/>
          </a:xfrm>
        </p:grpSpPr>
        <p:sp>
          <p:nvSpPr>
            <p:cNvPr id="1860" name=""/>
            <p:cNvSpPr/>
            <p:nvPr/>
          </p:nvSpPr>
          <p:spPr>
            <a:xfrm>
              <a:off x="5116680" y="3454560"/>
              <a:ext cx="439416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572080" y="4387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20388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6832800" y="43862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746280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8099640" y="438624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8728200" y="43862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572080" y="4786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620388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832800" y="478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746280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8099640" y="478476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8728200" y="478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572080" y="5181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20388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6832800" y="51800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746280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8099640" y="518004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8728200" y="51800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572080" y="556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620388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6832800" y="5565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46280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8099640" y="556560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8728200" y="5565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437440" y="414036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437440" y="454356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437440" y="493236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437440" y="533088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437440" y="572436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437440" y="374652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572080" y="59641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620388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6832800" y="5962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746280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8099640" y="596268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8728200" y="5962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572080" y="3995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20388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6832800" y="3994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746280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8099640" y="399420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8728200" y="3994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03" name=""/>
          <p:cNvGraphicFramePr/>
          <p:nvPr/>
        </p:nvGraphicFramePr>
        <p:xfrm>
          <a:off x="790560" y="638280"/>
          <a:ext cx="8381880" cy="550548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8840"/>
                <a:gridCol w="648000"/>
                <a:gridCol w="857160"/>
                <a:gridCol w="619200"/>
                <a:gridCol w="618840"/>
                <a:gridCol w="628920"/>
                <a:gridCol w="637920"/>
                <a:gridCol w="609840"/>
                <a:gridCol w="637920"/>
              </a:tblGrid>
              <a:tr h="409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"/>
          <p:cNvSpPr/>
          <p:nvPr/>
        </p:nvSpPr>
        <p:spPr>
          <a:xfrm>
            <a:off x="469800" y="3454560"/>
            <a:ext cx="4394160" cy="2863800"/>
          </a:xfrm>
          <a:prstGeom prst="roundRect">
            <a:avLst>
              <a:gd name="adj" fmla="val 10014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930240" y="438768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1562040" y="438624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2190600" y="438624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2820960" y="438624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3457440" y="4386240"/>
            <a:ext cx="29700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4086360" y="438624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930240" y="478620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1562040" y="478476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2190600" y="478476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2820960" y="478476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3457440" y="4784760"/>
            <a:ext cx="29700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4086360" y="478476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930240" y="518148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1562040" y="518004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2190600" y="518004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2820960" y="518004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3457440" y="5180040"/>
            <a:ext cx="29700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4086360" y="518004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930240" y="556740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1562040" y="556560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190600" y="556560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2820960" y="556560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3457440" y="5565600"/>
            <a:ext cx="29700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4086360" y="556560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795240" y="4140360"/>
            <a:ext cx="3746520" cy="15876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795240" y="4543560"/>
            <a:ext cx="3746520" cy="15876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795240" y="4932360"/>
            <a:ext cx="3746520" cy="15876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795240" y="5330880"/>
            <a:ext cx="3746520" cy="15876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795240" y="5724360"/>
            <a:ext cx="3746520" cy="15876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795240" y="3746520"/>
            <a:ext cx="3746520" cy="15876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930240" y="596412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1562040" y="596268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2190600" y="596268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2820960" y="596268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3457440" y="5962680"/>
            <a:ext cx="29700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4086360" y="596268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930240" y="399564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1562040" y="399420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2190600" y="399420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2820960" y="399420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3457440" y="3994200"/>
            <a:ext cx="29700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4086360" y="399420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7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1948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9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1950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1951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3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56" name=""/>
          <p:cNvSpPr/>
          <p:nvPr/>
        </p:nvSpPr>
        <p:spPr>
          <a:xfrm>
            <a:off x="469800" y="353880"/>
            <a:ext cx="4394160" cy="2864160"/>
          </a:xfrm>
          <a:prstGeom prst="roundRect">
            <a:avLst>
              <a:gd name="adj" fmla="val 10014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930240" y="169236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1562040" y="169056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2190600" y="169056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2820960" y="169056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3457440" y="1690560"/>
            <a:ext cx="29700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4086360" y="169056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930240" y="207792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1562040" y="207648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2190600" y="207648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2820960" y="207648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3457440" y="2076480"/>
            <a:ext cx="29700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4086360" y="207648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795240" y="1020600"/>
            <a:ext cx="3746520" cy="15876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795240" y="1414440"/>
            <a:ext cx="3746520" cy="15876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795240" y="1812960"/>
            <a:ext cx="3746520" cy="15876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795240" y="2211480"/>
            <a:ext cx="3746520" cy="15876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795240" y="2604960"/>
            <a:ext cx="3746520" cy="15876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795240" y="627120"/>
            <a:ext cx="3746520" cy="15876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930240" y="288288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1562040" y="2881440"/>
            <a:ext cx="300240" cy="6480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2190600" y="2881440"/>
            <a:ext cx="300240" cy="6480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2820960" y="2881440"/>
            <a:ext cx="300240" cy="6480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3457440" y="2881440"/>
            <a:ext cx="297000" cy="6480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4084560" y="2881440"/>
            <a:ext cx="300240" cy="6480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930240" y="89532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1562040" y="893880"/>
            <a:ext cx="300240" cy="6480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2190600" y="893880"/>
            <a:ext cx="300240" cy="6480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2820960" y="893880"/>
            <a:ext cx="300240" cy="6480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3457440" y="893880"/>
            <a:ext cx="297000" cy="6480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4084560" y="893880"/>
            <a:ext cx="300240" cy="6480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930240" y="129384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562040" y="1292400"/>
            <a:ext cx="300240" cy="6480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2190600" y="1292400"/>
            <a:ext cx="300240" cy="6480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2820960" y="1292400"/>
            <a:ext cx="300240" cy="6480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3457440" y="1292400"/>
            <a:ext cx="297000" cy="6480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4084560" y="1292400"/>
            <a:ext cx="300240" cy="6480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930240" y="247320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1562040" y="247176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2190600" y="247176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2820960" y="247176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3457440" y="2471760"/>
            <a:ext cx="29700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4084560" y="247176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116680" y="352440"/>
            <a:ext cx="4394160" cy="2863800"/>
          </a:xfrm>
          <a:prstGeom prst="roundRect">
            <a:avLst>
              <a:gd name="adj" fmla="val 10014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5575320" y="169056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6207120" y="168912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6835680" y="168912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7466040" y="168912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8102520" y="1689120"/>
            <a:ext cx="29700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8731080" y="168912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5575320" y="207648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6207120" y="2075040"/>
            <a:ext cx="299880" cy="6480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6835680" y="2075040"/>
            <a:ext cx="300240" cy="6480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7466040" y="2075040"/>
            <a:ext cx="299880" cy="6480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8102520" y="2075040"/>
            <a:ext cx="297000" cy="6480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8731080" y="2075040"/>
            <a:ext cx="300240" cy="6480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5440320" y="1019160"/>
            <a:ext cx="3746520" cy="15876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5440320" y="1413000"/>
            <a:ext cx="3746520" cy="15876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5440320" y="1811160"/>
            <a:ext cx="3746520" cy="15876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5440320" y="2209680"/>
            <a:ext cx="3746520" cy="15876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5440320" y="2603520"/>
            <a:ext cx="3746520" cy="15876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5440320" y="625320"/>
            <a:ext cx="3746520" cy="15876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5575320" y="2881440"/>
            <a:ext cx="299880" cy="6480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6207120" y="287964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6835680" y="287964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7466040" y="287964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8102520" y="2879640"/>
            <a:ext cx="29700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8729640" y="287964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5575320" y="893880"/>
            <a:ext cx="299880" cy="6480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6207120" y="89208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6835680" y="89208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7466040" y="89208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8102520" y="892080"/>
            <a:ext cx="29700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8729640" y="89208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5575320" y="1292400"/>
            <a:ext cx="299880" cy="6480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6207120" y="129060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6835680" y="129060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7466040" y="129060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8102520" y="1290600"/>
            <a:ext cx="29700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8729640" y="129060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5575320" y="247176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6207120" y="2470320"/>
            <a:ext cx="299880" cy="6480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6835680" y="2470320"/>
            <a:ext cx="300240" cy="6480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466040" y="2470320"/>
            <a:ext cx="299880" cy="6480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8102520" y="2470320"/>
            <a:ext cx="297000" cy="6480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8729640" y="2470320"/>
            <a:ext cx="300240" cy="6480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5116680" y="3454560"/>
            <a:ext cx="4394160" cy="2863800"/>
          </a:xfrm>
          <a:prstGeom prst="roundRect">
            <a:avLst>
              <a:gd name="adj" fmla="val 10014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5576760" y="438768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6208560" y="438624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6837480" y="438624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7467480" y="438624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8104320" y="4386240"/>
            <a:ext cx="2966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8732880" y="438624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5576760" y="478620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6208560" y="478476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6837480" y="478476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7467480" y="478476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8104320" y="4784760"/>
            <a:ext cx="2966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8732880" y="478476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5576760" y="518148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6208560" y="518004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6837480" y="518004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7467480" y="518004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8104320" y="5180040"/>
            <a:ext cx="2966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8732880" y="518004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5576760" y="556740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208560" y="556560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6837480" y="556560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7467480" y="556560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8104320" y="5565600"/>
            <a:ext cx="2966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8732880" y="556560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5442120" y="4140360"/>
            <a:ext cx="3746160" cy="15876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5442120" y="4543560"/>
            <a:ext cx="3746160" cy="15876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5442120" y="4932360"/>
            <a:ext cx="3746160" cy="15876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5442120" y="5330880"/>
            <a:ext cx="3746160" cy="15876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5442120" y="5724360"/>
            <a:ext cx="3746160" cy="15876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5442120" y="3746520"/>
            <a:ext cx="3746160" cy="15876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5576760" y="596412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6208560" y="596268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6837480" y="596268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7467480" y="596268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8104320" y="5962680"/>
            <a:ext cx="2966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8732880" y="596268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5576760" y="399564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208560" y="399420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6837480" y="399420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7467480" y="399420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8104320" y="3994200"/>
            <a:ext cx="2966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8732880" y="399420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5" name=""/>
          <p:cNvGraphicFramePr/>
          <p:nvPr/>
        </p:nvGraphicFramePr>
        <p:xfrm>
          <a:off x="790560" y="638280"/>
          <a:ext cx="8381880" cy="550548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8840"/>
                <a:gridCol w="648000"/>
                <a:gridCol w="857160"/>
                <a:gridCol w="619200"/>
                <a:gridCol w="618840"/>
                <a:gridCol w="628920"/>
                <a:gridCol w="637920"/>
                <a:gridCol w="609840"/>
                <a:gridCol w="637920"/>
              </a:tblGrid>
              <a:tr h="409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6" name=""/>
          <p:cNvGrpSpPr/>
          <p:nvPr/>
        </p:nvGrpSpPr>
        <p:grpSpPr>
          <a:xfrm>
            <a:off x="469800" y="3454560"/>
            <a:ext cx="4394160" cy="2863800"/>
            <a:chOff x="469800" y="3454560"/>
            <a:chExt cx="4394160" cy="2863800"/>
          </a:xfrm>
        </p:grpSpPr>
        <p:sp>
          <p:nvSpPr>
            <p:cNvPr id="2087" name=""/>
            <p:cNvSpPr/>
            <p:nvPr/>
          </p:nvSpPr>
          <p:spPr>
            <a:xfrm>
              <a:off x="469800" y="3454560"/>
              <a:ext cx="439416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925200" y="4387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55700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218556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281592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452400" y="438624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4081320" y="43862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925200" y="4786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155700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218556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281592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452400" y="478476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4081320" y="478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925200" y="5181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155700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18556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81592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3452400" y="518004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4081320" y="51800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925200" y="556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155700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218556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281592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3452400" y="556560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081320" y="5565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790200" y="41403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790200" y="45435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790200" y="49323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790200" y="533088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90200" y="57243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790200" y="37465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925200" y="59641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55700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218556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281592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3452400" y="596268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4081320" y="5962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925200" y="3995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155700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218556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281592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452400" y="399420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4081320" y="3994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0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2131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2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2133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2134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6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39" name=""/>
          <p:cNvGrpSpPr/>
          <p:nvPr/>
        </p:nvGrpSpPr>
        <p:grpSpPr>
          <a:xfrm>
            <a:off x="469800" y="353880"/>
            <a:ext cx="4394160" cy="2864160"/>
            <a:chOff x="469800" y="353880"/>
            <a:chExt cx="4394160" cy="2864160"/>
          </a:xfrm>
        </p:grpSpPr>
        <p:sp>
          <p:nvSpPr>
            <p:cNvPr id="2140" name=""/>
            <p:cNvSpPr/>
            <p:nvPr/>
          </p:nvSpPr>
          <p:spPr>
            <a:xfrm>
              <a:off x="469800" y="353880"/>
              <a:ext cx="4394160" cy="2864160"/>
            </a:xfrm>
            <a:prstGeom prst="roundRect">
              <a:avLst>
                <a:gd name="adj" fmla="val 1001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925200" y="1692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1557000" y="16905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2185560" y="16905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2815920" y="16905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3452400" y="169056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4081320" y="16905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925200" y="2077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1557000" y="2076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185560" y="2076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2815920" y="2076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3452400" y="207648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4081320" y="20764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790200" y="102060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790200" y="141444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790200" y="18129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790200" y="221148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790200" y="26049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790200" y="6271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925200" y="28828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1557000" y="28814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2185560" y="28814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2815920" y="28814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3452400" y="2881440"/>
              <a:ext cx="29700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4079520" y="28814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925200" y="8953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557000" y="8938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2185560" y="8938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815920" y="8938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3452400" y="893880"/>
              <a:ext cx="29700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4079520" y="8938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925200" y="1293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55700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218556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81592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452400" y="1292400"/>
              <a:ext cx="29700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407952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925200" y="2473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557000" y="2471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185560" y="2471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2815920" y="2471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452400" y="247176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4079520" y="2471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3" name=""/>
          <p:cNvGrpSpPr/>
          <p:nvPr/>
        </p:nvGrpSpPr>
        <p:grpSpPr>
          <a:xfrm>
            <a:off x="5116680" y="352440"/>
            <a:ext cx="4394160" cy="2863800"/>
            <a:chOff x="5116680" y="352440"/>
            <a:chExt cx="4394160" cy="2863800"/>
          </a:xfrm>
        </p:grpSpPr>
        <p:sp>
          <p:nvSpPr>
            <p:cNvPr id="2184" name=""/>
            <p:cNvSpPr/>
            <p:nvPr/>
          </p:nvSpPr>
          <p:spPr>
            <a:xfrm>
              <a:off x="5116680" y="352440"/>
              <a:ext cx="439416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572440" y="16905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204240" y="16891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832800" y="16891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7463160" y="16891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8099640" y="168912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8728200" y="16891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572440" y="20764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204240" y="207504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832800" y="20750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7463160" y="207504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8099640" y="2075040"/>
              <a:ext cx="29700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8728200" y="20750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5437440" y="10191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5437440" y="141300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5437440" y="18111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5437440" y="220968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5437440" y="26035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437440" y="6253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572440" y="288144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6204240" y="2879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6832800" y="2879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7463160" y="2879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8099640" y="287964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8726760" y="2879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572440" y="89388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6204240" y="8920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832800" y="8920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7463160" y="8920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8099640" y="89208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8726760" y="8920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57244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204240" y="1290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832800" y="1290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7463160" y="1290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8099640" y="129060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8726760" y="1290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5572440" y="2471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6204240" y="24703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6832800" y="247032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7463160" y="24703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8099640" y="2470320"/>
              <a:ext cx="29700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8726760" y="247032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7" name=""/>
          <p:cNvGrpSpPr/>
          <p:nvPr/>
        </p:nvGrpSpPr>
        <p:grpSpPr>
          <a:xfrm>
            <a:off x="5116680" y="3454560"/>
            <a:ext cx="4394160" cy="2863800"/>
            <a:chOff x="5116680" y="3454560"/>
            <a:chExt cx="4394160" cy="2863800"/>
          </a:xfrm>
        </p:grpSpPr>
        <p:sp>
          <p:nvSpPr>
            <p:cNvPr id="2228" name=""/>
            <p:cNvSpPr/>
            <p:nvPr/>
          </p:nvSpPr>
          <p:spPr>
            <a:xfrm>
              <a:off x="5116680" y="3454560"/>
              <a:ext cx="439416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5572080" y="4387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620388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6832800" y="43862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746280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8099640" y="438624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8728200" y="43862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572080" y="4786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620388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6832800" y="478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746280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8099640" y="478476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8728200" y="478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572080" y="5181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620388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832800" y="51800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46280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8099640" y="518004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8728200" y="51800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572080" y="556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620388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832800" y="5565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746280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8099640" y="556560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8728200" y="5565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437440" y="414036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5437440" y="454356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437440" y="493236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437440" y="533088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437440" y="572436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437440" y="374652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572080" y="59641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620388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6832800" y="5962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746280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8099640" y="596268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8728200" y="5962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5572080" y="3995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620388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832800" y="3994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746280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8099640" y="399420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8728200" y="3994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71" name=""/>
          <p:cNvGraphicFramePr/>
          <p:nvPr/>
        </p:nvGraphicFramePr>
        <p:xfrm>
          <a:off x="790560" y="638280"/>
          <a:ext cx="8381880" cy="550548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8840"/>
                <a:gridCol w="648000"/>
                <a:gridCol w="857160"/>
                <a:gridCol w="619200"/>
                <a:gridCol w="618840"/>
                <a:gridCol w="628920"/>
                <a:gridCol w="637920"/>
                <a:gridCol w="609840"/>
                <a:gridCol w="637920"/>
              </a:tblGrid>
              <a:tr h="409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2" name=""/>
          <p:cNvGrpSpPr/>
          <p:nvPr/>
        </p:nvGrpSpPr>
        <p:grpSpPr>
          <a:xfrm>
            <a:off x="469800" y="3454560"/>
            <a:ext cx="4394160" cy="2863800"/>
            <a:chOff x="469800" y="3454560"/>
            <a:chExt cx="4394160" cy="2863800"/>
          </a:xfrm>
        </p:grpSpPr>
        <p:sp>
          <p:nvSpPr>
            <p:cNvPr id="2273" name=""/>
            <p:cNvSpPr/>
            <p:nvPr/>
          </p:nvSpPr>
          <p:spPr>
            <a:xfrm>
              <a:off x="469800" y="3454560"/>
              <a:ext cx="439416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925200" y="4387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155700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218556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81592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452400" y="438624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4081320" y="43862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925200" y="4786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155700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218556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281592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3452400" y="478476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081320" y="478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925200" y="5181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55700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218556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281592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3452400" y="518004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081320" y="51800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925200" y="556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55700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218556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281592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3452400" y="556560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081320" y="5565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790200" y="41403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790200" y="45435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790200" y="49323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790200" y="533088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790200" y="57243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90200" y="37465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925200" y="59641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155700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218556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281592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3452400" y="596268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4081320" y="5962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925200" y="3995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55700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18556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281592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3452400" y="399420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081320" y="3994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6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2317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8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2319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2320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2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5" name=""/>
          <p:cNvGrpSpPr/>
          <p:nvPr/>
        </p:nvGrpSpPr>
        <p:grpSpPr>
          <a:xfrm>
            <a:off x="469800" y="353880"/>
            <a:ext cx="4394160" cy="2864160"/>
            <a:chOff x="469800" y="353880"/>
            <a:chExt cx="4394160" cy="2864160"/>
          </a:xfrm>
        </p:grpSpPr>
        <p:sp>
          <p:nvSpPr>
            <p:cNvPr id="2326" name=""/>
            <p:cNvSpPr/>
            <p:nvPr/>
          </p:nvSpPr>
          <p:spPr>
            <a:xfrm>
              <a:off x="469800" y="353880"/>
              <a:ext cx="4394160" cy="2864160"/>
            </a:xfrm>
            <a:prstGeom prst="roundRect">
              <a:avLst>
                <a:gd name="adj" fmla="val 1001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925200" y="1692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1557000" y="16905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2185560" y="16905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815920" y="16905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3452400" y="169056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4081320" y="16905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925200" y="2077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1557000" y="2076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2185560" y="2076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815920" y="2076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3452400" y="207648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4081320" y="20764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790200" y="102060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790200" y="141444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790200" y="18129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790200" y="221148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790200" y="26049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790200" y="6271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925200" y="28828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1557000" y="28814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185560" y="28814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815920" y="28814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452400" y="2881440"/>
              <a:ext cx="29700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4079520" y="28814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925200" y="8953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1557000" y="8938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185560" y="8938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815920" y="8938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3452400" y="893880"/>
              <a:ext cx="29700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4079520" y="8938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925200" y="1293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155700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18556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81592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3452400" y="1292400"/>
              <a:ext cx="29700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407952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925200" y="2473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1557000" y="2471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185560" y="2471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815920" y="2471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3452400" y="247176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4079520" y="2471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9" name=""/>
          <p:cNvGrpSpPr/>
          <p:nvPr/>
        </p:nvGrpSpPr>
        <p:grpSpPr>
          <a:xfrm>
            <a:off x="5116680" y="352440"/>
            <a:ext cx="4394160" cy="2863800"/>
            <a:chOff x="5116680" y="352440"/>
            <a:chExt cx="4394160" cy="2863800"/>
          </a:xfrm>
        </p:grpSpPr>
        <p:sp>
          <p:nvSpPr>
            <p:cNvPr id="2370" name=""/>
            <p:cNvSpPr/>
            <p:nvPr/>
          </p:nvSpPr>
          <p:spPr>
            <a:xfrm>
              <a:off x="5116680" y="352440"/>
              <a:ext cx="439416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5572440" y="16905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6204240" y="16891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6832800" y="16891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7463160" y="16891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8099640" y="168912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8728200" y="16891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572440" y="20764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6204240" y="207504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832800" y="20750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463160" y="207504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8099640" y="2075040"/>
              <a:ext cx="29700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8728200" y="20750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5437440" y="10191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437440" y="141300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437440" y="18111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437440" y="220968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5437440" y="26035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437440" y="6253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5572440" y="288144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6204240" y="2879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6832800" y="2879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7463160" y="2879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099640" y="287964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8726760" y="2879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5572440" y="89388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6204240" y="8920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6832800" y="8920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7463160" y="8920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8099640" y="89208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8726760" y="8920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57244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6204240" y="1290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6832800" y="1290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7463160" y="1290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8099640" y="129060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8726760" y="1290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5572440" y="2471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6204240" y="24703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6832800" y="247032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7463160" y="24703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099640" y="2470320"/>
              <a:ext cx="29700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8726760" y="247032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3" name=""/>
          <p:cNvGrpSpPr/>
          <p:nvPr/>
        </p:nvGrpSpPr>
        <p:grpSpPr>
          <a:xfrm>
            <a:off x="5116680" y="3454560"/>
            <a:ext cx="4394160" cy="2863800"/>
            <a:chOff x="5116680" y="3454560"/>
            <a:chExt cx="4394160" cy="2863800"/>
          </a:xfrm>
        </p:grpSpPr>
        <p:sp>
          <p:nvSpPr>
            <p:cNvPr id="2414" name=""/>
            <p:cNvSpPr/>
            <p:nvPr/>
          </p:nvSpPr>
          <p:spPr>
            <a:xfrm>
              <a:off x="5116680" y="3454560"/>
              <a:ext cx="439416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572080" y="4387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620388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6832800" y="43862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746280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8099640" y="438624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728200" y="43862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5572080" y="4786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620388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6832800" y="478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746280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8099640" y="478476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8728200" y="478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5572080" y="5181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620388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832800" y="51800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746280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8099640" y="518004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8728200" y="51800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572080" y="556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620388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6832800" y="5565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746280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8099640" y="556560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8728200" y="5565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437440" y="414036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437440" y="454356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437440" y="493236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437440" y="533088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437440" y="572436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437440" y="374652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5572080" y="59641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620388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6832800" y="5962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746280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8099640" y="596268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8728200" y="5962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572080" y="3995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620388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6832800" y="3994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746280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8099640" y="399420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8728200" y="3994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457" name=""/>
          <p:cNvGraphicFramePr/>
          <p:nvPr/>
        </p:nvGraphicFramePr>
        <p:xfrm>
          <a:off x="790560" y="638280"/>
          <a:ext cx="8381880" cy="550548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8840"/>
                <a:gridCol w="648000"/>
                <a:gridCol w="857160"/>
                <a:gridCol w="619200"/>
                <a:gridCol w="618840"/>
                <a:gridCol w="628920"/>
                <a:gridCol w="637920"/>
                <a:gridCol w="609840"/>
                <a:gridCol w="637920"/>
              </a:tblGrid>
              <a:tr h="409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8" name=""/>
          <p:cNvGrpSpPr/>
          <p:nvPr/>
        </p:nvGrpSpPr>
        <p:grpSpPr>
          <a:xfrm>
            <a:off x="469800" y="3454560"/>
            <a:ext cx="4394160" cy="2863800"/>
            <a:chOff x="469800" y="3454560"/>
            <a:chExt cx="4394160" cy="2863800"/>
          </a:xfrm>
        </p:grpSpPr>
        <p:sp>
          <p:nvSpPr>
            <p:cNvPr id="2459" name=""/>
            <p:cNvSpPr/>
            <p:nvPr/>
          </p:nvSpPr>
          <p:spPr>
            <a:xfrm>
              <a:off x="469800" y="3454560"/>
              <a:ext cx="4394160" cy="2863800"/>
            </a:xfrm>
            <a:prstGeom prst="roundRect">
              <a:avLst>
                <a:gd name="adj" fmla="val 10014"/>
              </a:avLst>
            </a:prstGeom>
            <a:gradFill rotWithShape="0">
              <a:gsLst>
                <a:gs pos="0">
                  <a:srgbClr val="174eff"/>
                </a:gs>
                <a:gs pos="50000">
                  <a:srgbClr val="e1ffff"/>
                </a:gs>
                <a:gs pos="100000">
                  <a:srgbClr val="174e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925200" y="4387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155700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18556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81592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3452400" y="438624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4081320" y="43862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925200" y="4786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155700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18556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281592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3452400" y="478476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4081320" y="478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925200" y="5181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155700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218556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81592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3452400" y="518004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4081320" y="51800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925200" y="556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155700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218556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281592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452400" y="556560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4081320" y="5565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790200" y="41403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790200" y="45435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790200" y="49323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790200" y="533088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790200" y="57243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790200" y="37465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925200" y="59641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155700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18556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81592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3452400" y="596268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4081320" y="5962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925200" y="3995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55700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18556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81592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3452400" y="399420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4081320" y="3994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2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2503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4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2505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2506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08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11" name=""/>
          <p:cNvGrpSpPr/>
          <p:nvPr/>
        </p:nvGrpSpPr>
        <p:grpSpPr>
          <a:xfrm>
            <a:off x="469800" y="353880"/>
            <a:ext cx="4394160" cy="2864160"/>
            <a:chOff x="469800" y="353880"/>
            <a:chExt cx="4394160" cy="2864160"/>
          </a:xfrm>
        </p:grpSpPr>
        <p:sp>
          <p:nvSpPr>
            <p:cNvPr id="2512" name=""/>
            <p:cNvSpPr/>
            <p:nvPr/>
          </p:nvSpPr>
          <p:spPr>
            <a:xfrm>
              <a:off x="469800" y="353880"/>
              <a:ext cx="4394160" cy="2864160"/>
            </a:xfrm>
            <a:prstGeom prst="roundRect">
              <a:avLst>
                <a:gd name="adj" fmla="val 10014"/>
              </a:avLst>
            </a:prstGeom>
            <a:gradFill rotWithShape="0">
              <a:gsLst>
                <a:gs pos="0">
                  <a:srgbClr val="174eff"/>
                </a:gs>
                <a:gs pos="50000">
                  <a:srgbClr val="e1ffff"/>
                </a:gs>
                <a:gs pos="100000">
                  <a:srgbClr val="174e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925200" y="1692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1557000" y="16905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2185560" y="16905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2815920" y="16905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3452400" y="169056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4081320" y="16905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925200" y="2077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1557000" y="2076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2185560" y="2076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2815920" y="2076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3452400" y="207648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4081320" y="20764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790200" y="102060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790200" y="141444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790200" y="18129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790200" y="221148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790200" y="26049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790200" y="6271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925200" y="28828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1557000" y="28814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185560" y="28814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2815920" y="28814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3452400" y="2881440"/>
              <a:ext cx="29700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4079520" y="28814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925200" y="8953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1557000" y="8938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185560" y="8938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815920" y="8938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3452400" y="893880"/>
              <a:ext cx="29700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4079520" y="8938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925200" y="1293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155700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218556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281592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3452400" y="1292400"/>
              <a:ext cx="29700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407952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925200" y="2473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1557000" y="2471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2185560" y="2471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2815920" y="2471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3452400" y="247176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4079520" y="2471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5" name=""/>
          <p:cNvGrpSpPr/>
          <p:nvPr/>
        </p:nvGrpSpPr>
        <p:grpSpPr>
          <a:xfrm>
            <a:off x="5116680" y="352440"/>
            <a:ext cx="4394160" cy="2863800"/>
            <a:chOff x="5116680" y="352440"/>
            <a:chExt cx="4394160" cy="2863800"/>
          </a:xfrm>
        </p:grpSpPr>
        <p:sp>
          <p:nvSpPr>
            <p:cNvPr id="2556" name=""/>
            <p:cNvSpPr/>
            <p:nvPr/>
          </p:nvSpPr>
          <p:spPr>
            <a:xfrm>
              <a:off x="5116680" y="352440"/>
              <a:ext cx="4394160" cy="2863800"/>
            </a:xfrm>
            <a:prstGeom prst="roundRect">
              <a:avLst>
                <a:gd name="adj" fmla="val 10014"/>
              </a:avLst>
            </a:prstGeom>
            <a:gradFill rotWithShape="0">
              <a:gsLst>
                <a:gs pos="0">
                  <a:srgbClr val="174eff"/>
                </a:gs>
                <a:gs pos="50000">
                  <a:srgbClr val="e1ffff"/>
                </a:gs>
                <a:gs pos="100000">
                  <a:srgbClr val="174e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5572440" y="16905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6204240" y="16891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6832800" y="16891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7463160" y="16891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8099640" y="168912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8728200" y="16891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5572440" y="20764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6204240" y="207504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6832800" y="20750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7463160" y="207504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8099640" y="2075040"/>
              <a:ext cx="29700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8728200" y="20750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5437440" y="10191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5437440" y="141300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5437440" y="18111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5437440" y="220968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5437440" y="26035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5437440" y="6253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5572440" y="288144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6204240" y="2879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6832800" y="2879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7463160" y="2879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8099640" y="287964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8726760" y="2879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5572440" y="89388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6204240" y="8920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6832800" y="8920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7463160" y="8920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8099640" y="89208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8726760" y="8920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557244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6204240" y="1290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6832800" y="1290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7463160" y="1290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8099640" y="129060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8726760" y="1290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5572440" y="2471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6204240" y="24703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6832800" y="247032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7463160" y="24703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8099640" y="2470320"/>
              <a:ext cx="29700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8726760" y="247032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9" name=""/>
          <p:cNvGrpSpPr/>
          <p:nvPr/>
        </p:nvGrpSpPr>
        <p:grpSpPr>
          <a:xfrm>
            <a:off x="5116680" y="3454560"/>
            <a:ext cx="4394160" cy="2863800"/>
            <a:chOff x="5116680" y="3454560"/>
            <a:chExt cx="4394160" cy="2863800"/>
          </a:xfrm>
        </p:grpSpPr>
        <p:sp>
          <p:nvSpPr>
            <p:cNvPr id="2600" name=""/>
            <p:cNvSpPr/>
            <p:nvPr/>
          </p:nvSpPr>
          <p:spPr>
            <a:xfrm>
              <a:off x="5116680" y="3454560"/>
              <a:ext cx="4394160" cy="2863800"/>
            </a:xfrm>
            <a:prstGeom prst="roundRect">
              <a:avLst>
                <a:gd name="adj" fmla="val 10014"/>
              </a:avLst>
            </a:prstGeom>
            <a:gradFill rotWithShape="0">
              <a:gsLst>
                <a:gs pos="0">
                  <a:srgbClr val="174eff"/>
                </a:gs>
                <a:gs pos="50000">
                  <a:srgbClr val="e1ffff"/>
                </a:gs>
                <a:gs pos="100000">
                  <a:srgbClr val="174e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5572080" y="4387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620388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6832800" y="43862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746280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8099640" y="438624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8728200" y="43862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5572080" y="4786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620388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6832800" y="478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746280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8099640" y="478476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8728200" y="478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5572080" y="5181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620388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6832800" y="51800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746280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8099640" y="518004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8728200" y="51800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5572080" y="556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620388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6832800" y="5565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746280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8099640" y="556560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8728200" y="5565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5437440" y="414036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5437440" y="454356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5437440" y="493236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5437440" y="533088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5437440" y="572436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5437440" y="374652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5572080" y="59641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620388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6832800" y="5962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746280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8099640" y="596268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8728200" y="5962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5572080" y="3995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620388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6832800" y="3994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746280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8099640" y="399420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8728200" y="3994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643" name=""/>
          <p:cNvGraphicFramePr/>
          <p:nvPr/>
        </p:nvGraphicFramePr>
        <p:xfrm>
          <a:off x="790560" y="638280"/>
          <a:ext cx="8381880" cy="550548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8840"/>
                <a:gridCol w="648000"/>
                <a:gridCol w="857160"/>
                <a:gridCol w="619200"/>
                <a:gridCol w="618840"/>
                <a:gridCol w="628920"/>
                <a:gridCol w="637920"/>
                <a:gridCol w="609840"/>
                <a:gridCol w="637920"/>
              </a:tblGrid>
              <a:tr h="409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4" name=""/>
          <p:cNvGrpSpPr/>
          <p:nvPr/>
        </p:nvGrpSpPr>
        <p:grpSpPr>
          <a:xfrm>
            <a:off x="469800" y="3454560"/>
            <a:ext cx="4394160" cy="2863800"/>
            <a:chOff x="469800" y="3454560"/>
            <a:chExt cx="4394160" cy="2863800"/>
          </a:xfrm>
        </p:grpSpPr>
        <p:sp>
          <p:nvSpPr>
            <p:cNvPr id="2645" name=""/>
            <p:cNvSpPr/>
            <p:nvPr/>
          </p:nvSpPr>
          <p:spPr>
            <a:xfrm>
              <a:off x="469800" y="3454560"/>
              <a:ext cx="4394160" cy="2863800"/>
            </a:xfrm>
            <a:prstGeom prst="roundRect">
              <a:avLst>
                <a:gd name="adj" fmla="val 10014"/>
              </a:avLst>
            </a:prstGeom>
            <a:gradFill rotWithShape="0">
              <a:gsLst>
                <a:gs pos="0">
                  <a:srgbClr val="b7ffb7"/>
                </a:gs>
                <a:gs pos="50000">
                  <a:srgbClr val="ffff99"/>
                </a:gs>
                <a:gs pos="100000">
                  <a:srgbClr val="b7ff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925200" y="4387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155700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218556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281592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3452400" y="438624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4081320" y="43862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925200" y="4786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155700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218556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281592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3452400" y="478476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4081320" y="478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925200" y="5181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155700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218556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281592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3452400" y="518004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4081320" y="51800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925200" y="556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155700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218556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281592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3452400" y="556560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4081320" y="5565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790200" y="41403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790200" y="45435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790200" y="49323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790200" y="533088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790200" y="57243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790200" y="37465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925200" y="59641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155700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218556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281592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3452400" y="596268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081320" y="5962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925200" y="3995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155700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218556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281592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3452400" y="399420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4081320" y="3994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8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2689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0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2691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2692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94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97" name=""/>
          <p:cNvGrpSpPr/>
          <p:nvPr/>
        </p:nvGrpSpPr>
        <p:grpSpPr>
          <a:xfrm>
            <a:off x="469800" y="353880"/>
            <a:ext cx="4394160" cy="2864160"/>
            <a:chOff x="469800" y="353880"/>
            <a:chExt cx="4394160" cy="2864160"/>
          </a:xfrm>
        </p:grpSpPr>
        <p:sp>
          <p:nvSpPr>
            <p:cNvPr id="2698" name=""/>
            <p:cNvSpPr/>
            <p:nvPr/>
          </p:nvSpPr>
          <p:spPr>
            <a:xfrm>
              <a:off x="469800" y="353880"/>
              <a:ext cx="4394160" cy="2864160"/>
            </a:xfrm>
            <a:prstGeom prst="roundRect">
              <a:avLst>
                <a:gd name="adj" fmla="val 10014"/>
              </a:avLst>
            </a:prstGeom>
            <a:gradFill rotWithShape="0">
              <a:gsLst>
                <a:gs pos="0">
                  <a:srgbClr val="b7ffb7"/>
                </a:gs>
                <a:gs pos="50000">
                  <a:srgbClr val="ffff99"/>
                </a:gs>
                <a:gs pos="100000">
                  <a:srgbClr val="b7ff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925200" y="1692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1557000" y="16905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2185560" y="16905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2815920" y="16905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3452400" y="169056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4081320" y="16905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925200" y="2077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1557000" y="2076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2185560" y="2076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2815920" y="2076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3452400" y="207648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4081320" y="20764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790200" y="102060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790200" y="141444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790200" y="18129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790200" y="221148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790200" y="26049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790200" y="6271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925200" y="28828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1557000" y="28814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2185560" y="28814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2815920" y="28814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3452400" y="2881440"/>
              <a:ext cx="29700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4079520" y="28814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925200" y="8953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1557000" y="8938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2185560" y="8938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2815920" y="8938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3452400" y="893880"/>
              <a:ext cx="29700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4079520" y="8938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925200" y="1293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155700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218556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281592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3452400" y="1292400"/>
              <a:ext cx="29700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407952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925200" y="2473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1557000" y="2471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2185560" y="2471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2815920" y="2471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3452400" y="247176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4079520" y="2471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1" name=""/>
          <p:cNvGrpSpPr/>
          <p:nvPr/>
        </p:nvGrpSpPr>
        <p:grpSpPr>
          <a:xfrm>
            <a:off x="5116680" y="352440"/>
            <a:ext cx="4394160" cy="2863800"/>
            <a:chOff x="5116680" y="352440"/>
            <a:chExt cx="4394160" cy="2863800"/>
          </a:xfrm>
        </p:grpSpPr>
        <p:sp>
          <p:nvSpPr>
            <p:cNvPr id="2742" name=""/>
            <p:cNvSpPr/>
            <p:nvPr/>
          </p:nvSpPr>
          <p:spPr>
            <a:xfrm>
              <a:off x="5116680" y="352440"/>
              <a:ext cx="4394160" cy="2863800"/>
            </a:xfrm>
            <a:prstGeom prst="roundRect">
              <a:avLst>
                <a:gd name="adj" fmla="val 10014"/>
              </a:avLst>
            </a:prstGeom>
            <a:gradFill rotWithShape="0">
              <a:gsLst>
                <a:gs pos="0">
                  <a:srgbClr val="b7ffb7"/>
                </a:gs>
                <a:gs pos="50000">
                  <a:srgbClr val="ffff99"/>
                </a:gs>
                <a:gs pos="100000">
                  <a:srgbClr val="b7ff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5572440" y="16905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6204240" y="16891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6832800" y="16891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7463160" y="16891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8099640" y="168912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8728200" y="16891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5572440" y="20764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6204240" y="207504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6832800" y="20750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7463160" y="207504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8099640" y="2075040"/>
              <a:ext cx="29700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8728200" y="20750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5437440" y="10191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5437440" y="141300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5437440" y="18111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5437440" y="220968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5437440" y="26035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437440" y="6253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5572440" y="288144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6204240" y="2879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6832800" y="2879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7463160" y="2879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8099640" y="287964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8726760" y="2879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5572440" y="89388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6204240" y="8920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6832800" y="8920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7463160" y="8920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8099640" y="89208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8726760" y="8920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557244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6204240" y="1290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832800" y="1290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7463160" y="1290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8099640" y="129060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8726760" y="1290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5572440" y="2471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6204240" y="24703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6832800" y="247032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7463160" y="24703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8099640" y="2470320"/>
              <a:ext cx="29700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8726760" y="247032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5" name=""/>
          <p:cNvGrpSpPr/>
          <p:nvPr/>
        </p:nvGrpSpPr>
        <p:grpSpPr>
          <a:xfrm>
            <a:off x="5116680" y="3454560"/>
            <a:ext cx="4394160" cy="2863800"/>
            <a:chOff x="5116680" y="3454560"/>
            <a:chExt cx="4394160" cy="2863800"/>
          </a:xfrm>
        </p:grpSpPr>
        <p:sp>
          <p:nvSpPr>
            <p:cNvPr id="2786" name=""/>
            <p:cNvSpPr/>
            <p:nvPr/>
          </p:nvSpPr>
          <p:spPr>
            <a:xfrm>
              <a:off x="5116680" y="3454560"/>
              <a:ext cx="4394160" cy="2863800"/>
            </a:xfrm>
            <a:prstGeom prst="roundRect">
              <a:avLst>
                <a:gd name="adj" fmla="val 10014"/>
              </a:avLst>
            </a:prstGeom>
            <a:gradFill rotWithShape="0">
              <a:gsLst>
                <a:gs pos="0">
                  <a:srgbClr val="b7ffb7"/>
                </a:gs>
                <a:gs pos="50000">
                  <a:srgbClr val="ffff99"/>
                </a:gs>
                <a:gs pos="100000">
                  <a:srgbClr val="b7ff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5572080" y="4387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620388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6832800" y="43862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746280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8099640" y="438624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8728200" y="43862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572080" y="4786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620388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6832800" y="478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746280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8099640" y="478476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8728200" y="478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5572080" y="5181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620388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6832800" y="51800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746280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8099640" y="518004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8728200" y="51800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5572080" y="556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620388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6832800" y="5565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746280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8099640" y="556560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8728200" y="5565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5437440" y="414036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5437440" y="454356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5437440" y="493236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5437440" y="533088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5437440" y="572436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5437440" y="374652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5572080" y="59641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620388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6832800" y="5962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746280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8099640" y="596268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8728200" y="5962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5572080" y="3995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620388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6832800" y="3994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46280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8099640" y="399420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8728200" y="3994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829" name=""/>
          <p:cNvGraphicFramePr/>
          <p:nvPr/>
        </p:nvGraphicFramePr>
        <p:xfrm>
          <a:off x="790560" y="638280"/>
          <a:ext cx="8381880" cy="550548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8840"/>
                <a:gridCol w="648000"/>
                <a:gridCol w="857160"/>
                <a:gridCol w="619200"/>
                <a:gridCol w="618840"/>
                <a:gridCol w="628920"/>
                <a:gridCol w="637920"/>
                <a:gridCol w="609840"/>
                <a:gridCol w="637920"/>
              </a:tblGrid>
              <a:tr h="409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0" name=""/>
          <p:cNvGrpSpPr/>
          <p:nvPr/>
        </p:nvGrpSpPr>
        <p:grpSpPr>
          <a:xfrm>
            <a:off x="469800" y="3454560"/>
            <a:ext cx="4394160" cy="2863800"/>
            <a:chOff x="469800" y="3454560"/>
            <a:chExt cx="4394160" cy="2863800"/>
          </a:xfrm>
        </p:grpSpPr>
        <p:sp>
          <p:nvSpPr>
            <p:cNvPr id="2831" name=""/>
            <p:cNvSpPr/>
            <p:nvPr/>
          </p:nvSpPr>
          <p:spPr>
            <a:xfrm>
              <a:off x="469800" y="3454560"/>
              <a:ext cx="439416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925200" y="4387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155700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218556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281592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3452400" y="438624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081320" y="43862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925200" y="4786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155700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218556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281592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3452400" y="478476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081320" y="478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925200" y="5181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155700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218556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281592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3452400" y="518004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4081320" y="51800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925200" y="556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155700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218556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281592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3452400" y="556560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4081320" y="5565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790200" y="41403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790200" y="45435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790200" y="49323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790200" y="533088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790200" y="57243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790200" y="37465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925200" y="59641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155700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218556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281592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3452400" y="596268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4081320" y="5962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925200" y="3995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155700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218556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281592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3452400" y="399420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4081320" y="3994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4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2875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6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2877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2878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0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3" name=""/>
          <p:cNvGrpSpPr/>
          <p:nvPr/>
        </p:nvGrpSpPr>
        <p:grpSpPr>
          <a:xfrm>
            <a:off x="469800" y="353880"/>
            <a:ext cx="4394160" cy="2864160"/>
            <a:chOff x="469800" y="353880"/>
            <a:chExt cx="4394160" cy="2864160"/>
          </a:xfrm>
        </p:grpSpPr>
        <p:sp>
          <p:nvSpPr>
            <p:cNvPr id="2884" name=""/>
            <p:cNvSpPr/>
            <p:nvPr/>
          </p:nvSpPr>
          <p:spPr>
            <a:xfrm>
              <a:off x="469800" y="353880"/>
              <a:ext cx="4394160" cy="2864160"/>
            </a:xfrm>
            <a:prstGeom prst="roundRect">
              <a:avLst>
                <a:gd name="adj" fmla="val 1001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925200" y="1692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1557000" y="16905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2185560" y="16905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2815920" y="16905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3452400" y="169056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4081320" y="16905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925200" y="2077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1557000" y="2076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2185560" y="2076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2815920" y="2076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3452400" y="207648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4081320" y="20764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790200" y="102060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790200" y="141444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790200" y="18129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790200" y="221148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790200" y="26049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790200" y="6271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925200" y="28828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1557000" y="28814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2185560" y="28814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2815920" y="28814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3452400" y="2881440"/>
              <a:ext cx="29700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4079520" y="28814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925200" y="8953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1557000" y="8938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2185560" y="8938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2815920" y="8938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3452400" y="893880"/>
              <a:ext cx="29700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4079520" y="8938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925200" y="1293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155700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218556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281592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3452400" y="1292400"/>
              <a:ext cx="29700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407952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925200" y="2473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1557000" y="2471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2185560" y="2471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2815920" y="2471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3452400" y="247176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4079520" y="2471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7" name=""/>
          <p:cNvGrpSpPr/>
          <p:nvPr/>
        </p:nvGrpSpPr>
        <p:grpSpPr>
          <a:xfrm>
            <a:off x="5116680" y="352440"/>
            <a:ext cx="4394160" cy="2863800"/>
            <a:chOff x="5116680" y="352440"/>
            <a:chExt cx="4394160" cy="2863800"/>
          </a:xfrm>
        </p:grpSpPr>
        <p:sp>
          <p:nvSpPr>
            <p:cNvPr id="2928" name=""/>
            <p:cNvSpPr/>
            <p:nvPr/>
          </p:nvSpPr>
          <p:spPr>
            <a:xfrm>
              <a:off x="5116680" y="352440"/>
              <a:ext cx="439416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5572440" y="16905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6204240" y="16891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6832800" y="16891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7463160" y="16891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8099640" y="168912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8728200" y="16891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5572440" y="20764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6204240" y="207504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6832800" y="20750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7463160" y="207504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8099640" y="2075040"/>
              <a:ext cx="29700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8728200" y="20750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5437440" y="10191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5437440" y="141300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5437440" y="18111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5437440" y="220968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5437440" y="26035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5437440" y="6253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5572440" y="288144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6204240" y="2879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6832800" y="2879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7463160" y="2879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8099640" y="287964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8726760" y="2879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5572440" y="89388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6204240" y="8920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6832800" y="8920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7463160" y="8920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8099640" y="89208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8726760" y="8920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557244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6204240" y="1290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6832800" y="1290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7463160" y="1290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8099640" y="129060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8726760" y="1290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5572440" y="2471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6204240" y="24703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6832800" y="247032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7463160" y="24703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8099640" y="2470320"/>
              <a:ext cx="29700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8726760" y="247032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1" name=""/>
          <p:cNvGrpSpPr/>
          <p:nvPr/>
        </p:nvGrpSpPr>
        <p:grpSpPr>
          <a:xfrm>
            <a:off x="5116680" y="3454560"/>
            <a:ext cx="4394160" cy="2863800"/>
            <a:chOff x="5116680" y="3454560"/>
            <a:chExt cx="4394160" cy="2863800"/>
          </a:xfrm>
        </p:grpSpPr>
        <p:sp>
          <p:nvSpPr>
            <p:cNvPr id="2972" name=""/>
            <p:cNvSpPr/>
            <p:nvPr/>
          </p:nvSpPr>
          <p:spPr>
            <a:xfrm>
              <a:off x="5116680" y="3454560"/>
              <a:ext cx="439416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5572080" y="4387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620388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6832800" y="43862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746280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8099640" y="438624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8728200" y="43862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5572080" y="4786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620388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6832800" y="478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746280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8099640" y="478476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8728200" y="478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5572080" y="5181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620388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6832800" y="51800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746280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8099640" y="518004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8728200" y="51800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5572080" y="556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620388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6832800" y="5565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746280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8099640" y="556560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8728200" y="5565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5437440" y="414036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5437440" y="454356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5437440" y="493236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5437440" y="533088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5437440" y="572436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5437440" y="374652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5572080" y="59641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620388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6832800" y="5962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746280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8099640" y="596268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8728200" y="5962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5572080" y="3995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620388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6832800" y="3994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746280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8099640" y="399420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8728200" y="3994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015" name=""/>
          <p:cNvGraphicFramePr/>
          <p:nvPr/>
        </p:nvGraphicFramePr>
        <p:xfrm>
          <a:off x="790560" y="638280"/>
          <a:ext cx="8381880" cy="552744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8840"/>
                <a:gridCol w="648000"/>
                <a:gridCol w="857160"/>
                <a:gridCol w="619200"/>
                <a:gridCol w="618840"/>
                <a:gridCol w="628920"/>
                <a:gridCol w="637920"/>
                <a:gridCol w="609840"/>
                <a:gridCol w="637920"/>
              </a:tblGrid>
              <a:tr h="409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469800" y="3454560"/>
            <a:ext cx="4394160" cy="2863800"/>
            <a:chOff x="469800" y="3454560"/>
            <a:chExt cx="4394160" cy="2863800"/>
          </a:xfrm>
        </p:grpSpPr>
        <p:sp>
          <p:nvSpPr>
            <p:cNvPr id="273" name=""/>
            <p:cNvSpPr/>
            <p:nvPr/>
          </p:nvSpPr>
          <p:spPr>
            <a:xfrm>
              <a:off x="469800" y="3454560"/>
              <a:ext cx="439416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25560" y="4387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57360" y="43862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8592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16280" y="43862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452760" y="438624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8132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25560" y="4786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557360" y="478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18592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16280" y="478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52760" y="478476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08132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25560" y="51814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57360" y="51800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18592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16280" y="51800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452760" y="518004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8132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25560" y="55674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57360" y="5565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8592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16280" y="5565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452760" y="556560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8132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0560" y="41403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90560" y="45435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0560" y="49323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90560" y="533088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90560" y="57243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90560" y="37465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25560" y="59641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57360" y="5962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8592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16280" y="5962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452760" y="596268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08132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25560" y="3995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557360" y="3994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18592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816280" y="3994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452760" y="399420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08132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317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2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469800" y="353880"/>
            <a:ext cx="4394160" cy="2864160"/>
            <a:chOff x="469800" y="353880"/>
            <a:chExt cx="4394160" cy="2864160"/>
          </a:xfrm>
        </p:grpSpPr>
        <p:sp>
          <p:nvSpPr>
            <p:cNvPr id="326" name=""/>
            <p:cNvSpPr/>
            <p:nvPr/>
          </p:nvSpPr>
          <p:spPr>
            <a:xfrm>
              <a:off x="469800" y="353880"/>
              <a:ext cx="4394160" cy="2864160"/>
            </a:xfrm>
            <a:prstGeom prst="roundRect">
              <a:avLst>
                <a:gd name="adj" fmla="val 1001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25200" y="1692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57360" y="16905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185920" y="16905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6280" y="16905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452040" y="1690560"/>
              <a:ext cx="29772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080960" y="16905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25200" y="2077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557360" y="2076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185920" y="2076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16280" y="2076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452040" y="2076480"/>
              <a:ext cx="29772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080960" y="2076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0200" y="102060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90200" y="141444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90200" y="18129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0200" y="221148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200" y="26049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90200" y="6271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25200" y="28828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557360" y="28814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85920" y="28814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816280" y="28814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52040" y="2881440"/>
              <a:ext cx="29772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079880" y="28814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25200" y="8953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557360" y="8938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85920" y="8938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16280" y="8938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52040" y="893880"/>
              <a:ext cx="29772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079880" y="8938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925200" y="1293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5736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18592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1628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52040" y="1292400"/>
              <a:ext cx="29772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7988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25200" y="2473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557360" y="2471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85920" y="2471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16280" y="2471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452040" y="2471760"/>
              <a:ext cx="29772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079880" y="2471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116680" y="352440"/>
            <a:ext cx="4394160" cy="2863800"/>
            <a:chOff x="5116680" y="352440"/>
            <a:chExt cx="4394160" cy="2863800"/>
          </a:xfrm>
        </p:grpSpPr>
        <p:sp>
          <p:nvSpPr>
            <p:cNvPr id="370" name=""/>
            <p:cNvSpPr/>
            <p:nvPr/>
          </p:nvSpPr>
          <p:spPr>
            <a:xfrm>
              <a:off x="5116680" y="352440"/>
              <a:ext cx="439416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572080" y="169056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204240" y="168876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832800" y="168876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463160" y="168876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098920" y="1688760"/>
              <a:ext cx="29772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727840" y="168876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72080" y="207612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04240" y="20746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32800" y="20746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463160" y="20746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098920" y="2074680"/>
              <a:ext cx="29772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727840" y="20746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37080" y="1018800"/>
              <a:ext cx="3746520" cy="1584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437080" y="1412640"/>
              <a:ext cx="3746520" cy="1584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37080" y="1811160"/>
              <a:ext cx="3746520" cy="1584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437080" y="2209680"/>
              <a:ext cx="3746520" cy="1584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437080" y="2603160"/>
              <a:ext cx="3746520" cy="1584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437080" y="625320"/>
              <a:ext cx="3746520" cy="15840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28810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04240" y="2879640"/>
              <a:ext cx="300240" cy="644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832800" y="2879640"/>
              <a:ext cx="300240" cy="644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463160" y="2879640"/>
              <a:ext cx="300240" cy="644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098920" y="2879640"/>
              <a:ext cx="297720" cy="644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726760" y="2879640"/>
              <a:ext cx="300240" cy="644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89352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204240" y="892080"/>
              <a:ext cx="300240" cy="644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832800" y="892080"/>
              <a:ext cx="300240" cy="644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463160" y="892080"/>
              <a:ext cx="300240" cy="644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098920" y="892080"/>
              <a:ext cx="297720" cy="644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726760" y="892080"/>
              <a:ext cx="300240" cy="644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72080" y="12920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04240" y="1290600"/>
              <a:ext cx="300240" cy="644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832800" y="1290600"/>
              <a:ext cx="300240" cy="644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463160" y="1290600"/>
              <a:ext cx="300240" cy="644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098920" y="1290600"/>
              <a:ext cx="297720" cy="644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726760" y="1290600"/>
              <a:ext cx="300240" cy="644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572080" y="2471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04240" y="246996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832800" y="246996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463160" y="246996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098920" y="2469960"/>
              <a:ext cx="29772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726760" y="246996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5116680" y="3454560"/>
            <a:ext cx="4394160" cy="2863800"/>
            <a:chOff x="5116680" y="3454560"/>
            <a:chExt cx="4394160" cy="2863800"/>
          </a:xfrm>
        </p:grpSpPr>
        <p:sp>
          <p:nvSpPr>
            <p:cNvPr id="414" name=""/>
            <p:cNvSpPr/>
            <p:nvPr/>
          </p:nvSpPr>
          <p:spPr>
            <a:xfrm>
              <a:off x="5116680" y="3454560"/>
              <a:ext cx="439416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72080" y="4387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20388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32800" y="43862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46280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099640" y="438624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728200" y="43862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572080" y="4786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20388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32800" y="478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46280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099640" y="478476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728200" y="478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572080" y="5181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20388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32800" y="51800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46280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099640" y="518004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728200" y="51800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72080" y="556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20388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832800" y="5565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46280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099640" y="556560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728200" y="5565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437080" y="41403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437080" y="45435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437080" y="49323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437080" y="533088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437080" y="57243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437080" y="37465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572080" y="59641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0388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32800" y="5962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46280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99640" y="596268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728200" y="5962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72080" y="3995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20388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832800" y="3994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6280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099640" y="399420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728200" y="3994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57" name=""/>
          <p:cNvGraphicFramePr/>
          <p:nvPr/>
        </p:nvGraphicFramePr>
        <p:xfrm>
          <a:off x="790560" y="638280"/>
          <a:ext cx="8381880" cy="550548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8840"/>
                <a:gridCol w="648000"/>
                <a:gridCol w="857160"/>
                <a:gridCol w="619200"/>
                <a:gridCol w="618840"/>
                <a:gridCol w="628920"/>
                <a:gridCol w="637920"/>
                <a:gridCol w="609840"/>
                <a:gridCol w="637920"/>
              </a:tblGrid>
              <a:tr h="409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"/>
          <p:cNvGrpSpPr/>
          <p:nvPr/>
        </p:nvGrpSpPr>
        <p:grpSpPr>
          <a:xfrm>
            <a:off x="469800" y="3454560"/>
            <a:ext cx="4394160" cy="2863800"/>
            <a:chOff x="469800" y="3454560"/>
            <a:chExt cx="4394160" cy="2863800"/>
          </a:xfrm>
        </p:grpSpPr>
        <p:sp>
          <p:nvSpPr>
            <p:cNvPr id="459" name=""/>
            <p:cNvSpPr/>
            <p:nvPr/>
          </p:nvSpPr>
          <p:spPr>
            <a:xfrm>
              <a:off x="469800" y="3454560"/>
              <a:ext cx="439416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25200" y="4387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5700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18556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81592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452400" y="438624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81320" y="43862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925200" y="4786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55700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18556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81592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52400" y="478476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81320" y="478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925200" y="5181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55700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18556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81592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452400" y="518004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081320" y="51800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925200" y="556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55700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18556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81592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452400" y="556560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081320" y="5565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0200" y="41403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200" y="45435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0200" y="49323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90200" y="533088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90200" y="57243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0200" y="37465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25200" y="59641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55700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18556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1592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452400" y="596268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081320" y="5962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925200" y="3995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55700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18556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1592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452400" y="399420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081320" y="3994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503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505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8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1" name=""/>
          <p:cNvGrpSpPr/>
          <p:nvPr/>
        </p:nvGrpSpPr>
        <p:grpSpPr>
          <a:xfrm>
            <a:off x="469800" y="353880"/>
            <a:ext cx="4394160" cy="2864160"/>
            <a:chOff x="469800" y="353880"/>
            <a:chExt cx="4394160" cy="2864160"/>
          </a:xfrm>
        </p:grpSpPr>
        <p:sp>
          <p:nvSpPr>
            <p:cNvPr id="512" name=""/>
            <p:cNvSpPr/>
            <p:nvPr/>
          </p:nvSpPr>
          <p:spPr>
            <a:xfrm>
              <a:off x="469800" y="353880"/>
              <a:ext cx="4394160" cy="2864160"/>
            </a:xfrm>
            <a:prstGeom prst="roundRect">
              <a:avLst>
                <a:gd name="adj" fmla="val 10014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925560" y="16923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557360" y="16905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185920" y="16905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816280" y="16905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52760" y="169056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81320" y="16905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925560" y="20779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557360" y="20764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185920" y="2076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816280" y="20764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452760" y="207648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81320" y="2076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90560" y="102060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90560" y="141444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90560" y="18129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90560" y="221148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90560" y="26049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90560" y="6271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25560" y="28828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557360" y="288144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185920" y="28814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816280" y="288144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52760" y="2881440"/>
              <a:ext cx="29700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079880" y="288144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25560" y="8953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557360" y="89388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185920" y="8938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816280" y="89388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452760" y="893880"/>
              <a:ext cx="29700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079880" y="89388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925560" y="1293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5736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18592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81628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452760" y="1292400"/>
              <a:ext cx="29700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07988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925560" y="2473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557360" y="2471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185920" y="2471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816280" y="2471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452760" y="247176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79880" y="2471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5116680" y="352440"/>
            <a:ext cx="4394160" cy="2863800"/>
            <a:chOff x="5116680" y="352440"/>
            <a:chExt cx="4394160" cy="2863800"/>
          </a:xfrm>
        </p:grpSpPr>
        <p:sp>
          <p:nvSpPr>
            <p:cNvPr id="556" name=""/>
            <p:cNvSpPr/>
            <p:nvPr/>
          </p:nvSpPr>
          <p:spPr>
            <a:xfrm>
              <a:off x="5116680" y="352440"/>
              <a:ext cx="439416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572080" y="16905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204240" y="16891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832800" y="16891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462800" y="16891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099640" y="168912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728200" y="16891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572080" y="2076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204240" y="207504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832800" y="207504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462800" y="20750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099640" y="2075040"/>
              <a:ext cx="2966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728200" y="207504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437440" y="10191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437440" y="141300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437440" y="18111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437440" y="220968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437440" y="26035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37440" y="6253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72080" y="28814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04240" y="2879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832800" y="2879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462800" y="2879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099640" y="287964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726760" y="2879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572080" y="8938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04240" y="8920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832800" y="8920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62800" y="8920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099640" y="89208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726760" y="8920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57208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204240" y="1290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832800" y="1290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462800" y="1290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099640" y="129060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726760" y="1290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572080" y="2471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204240" y="24703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832800" y="24703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462800" y="247032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099640" y="2470320"/>
              <a:ext cx="2966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726760" y="24703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5116680" y="3454560"/>
            <a:ext cx="4394160" cy="2863800"/>
            <a:chOff x="5116680" y="3454560"/>
            <a:chExt cx="4394160" cy="2863800"/>
          </a:xfrm>
        </p:grpSpPr>
        <p:sp>
          <p:nvSpPr>
            <p:cNvPr id="600" name=""/>
            <p:cNvSpPr/>
            <p:nvPr/>
          </p:nvSpPr>
          <p:spPr>
            <a:xfrm>
              <a:off x="5116680" y="3454560"/>
              <a:ext cx="439416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572440" y="4387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204240" y="43862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83280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463160" y="43862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099640" y="438624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72820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572440" y="4786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204240" y="478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83280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463160" y="478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099640" y="478476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72820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572440" y="51814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204240" y="51800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83280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463160" y="51800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099640" y="518004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72820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572440" y="55674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04240" y="5565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83280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463160" y="5565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099640" y="556560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72820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437440" y="41403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437440" y="45435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437440" y="49323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437440" y="533088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437440" y="57243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437440" y="37465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572440" y="59641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204240" y="5962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83280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3160" y="5962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099640" y="596268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72820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572440" y="3995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204240" y="3994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83280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463160" y="3994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099640" y="399420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72820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43" name=""/>
          <p:cNvGraphicFramePr/>
          <p:nvPr/>
        </p:nvGraphicFramePr>
        <p:xfrm>
          <a:off x="790560" y="638280"/>
          <a:ext cx="8381880" cy="550548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8840"/>
                <a:gridCol w="648000"/>
                <a:gridCol w="857160"/>
                <a:gridCol w="619200"/>
                <a:gridCol w="618840"/>
                <a:gridCol w="628920"/>
                <a:gridCol w="637920"/>
                <a:gridCol w="609840"/>
                <a:gridCol w="637920"/>
              </a:tblGrid>
              <a:tr h="409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4" name=""/>
          <p:cNvGrpSpPr/>
          <p:nvPr/>
        </p:nvGrpSpPr>
        <p:grpSpPr>
          <a:xfrm>
            <a:off x="469800" y="3454560"/>
            <a:ext cx="4394160" cy="2863800"/>
            <a:chOff x="469800" y="3454560"/>
            <a:chExt cx="4394160" cy="2863800"/>
          </a:xfrm>
        </p:grpSpPr>
        <p:sp>
          <p:nvSpPr>
            <p:cNvPr id="645" name=""/>
            <p:cNvSpPr/>
            <p:nvPr/>
          </p:nvSpPr>
          <p:spPr>
            <a:xfrm>
              <a:off x="469800" y="3454560"/>
              <a:ext cx="439416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925200" y="4387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5700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18556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81592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452400" y="438624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81320" y="43862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925200" y="4786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55700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18556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81592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452400" y="478476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081320" y="478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925200" y="5181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55700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18556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81592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452400" y="518004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081320" y="51800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925200" y="556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55700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18556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1592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452400" y="556560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081320" y="5565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90200" y="41403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90200" y="45435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90200" y="49323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90200" y="533088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90200" y="57243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90200" y="37465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925200" y="59641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55700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18556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81592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452400" y="596268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081320" y="5962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925200" y="3995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55700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18556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81592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452400" y="399420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081320" y="3994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689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0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691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4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7" name=""/>
          <p:cNvGrpSpPr/>
          <p:nvPr/>
        </p:nvGrpSpPr>
        <p:grpSpPr>
          <a:xfrm>
            <a:off x="469800" y="353880"/>
            <a:ext cx="4394160" cy="2864160"/>
            <a:chOff x="469800" y="353880"/>
            <a:chExt cx="4394160" cy="2864160"/>
          </a:xfrm>
        </p:grpSpPr>
        <p:sp>
          <p:nvSpPr>
            <p:cNvPr id="698" name=""/>
            <p:cNvSpPr/>
            <p:nvPr/>
          </p:nvSpPr>
          <p:spPr>
            <a:xfrm>
              <a:off x="469800" y="353880"/>
              <a:ext cx="4394160" cy="2864160"/>
            </a:xfrm>
            <a:prstGeom prst="roundRect">
              <a:avLst>
                <a:gd name="adj" fmla="val 10014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925200" y="1692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57000" y="16905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185560" y="16905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15920" y="16905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452400" y="169056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081320" y="16905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925200" y="2077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557000" y="2076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185560" y="2076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815920" y="2076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52400" y="207648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081320" y="20764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90200" y="102060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90200" y="141444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90200" y="18129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90200" y="221148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90200" y="26049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90200" y="6271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925200" y="28828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557000" y="28814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185560" y="28814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815920" y="28814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452400" y="2881440"/>
              <a:ext cx="29700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079520" y="28814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25200" y="8953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557000" y="8938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185560" y="8938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815920" y="8938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452400" y="893880"/>
              <a:ext cx="29700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079520" y="8938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925200" y="1293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55700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8556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81592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452400" y="1292400"/>
              <a:ext cx="29700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07952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925200" y="2473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557000" y="2471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185560" y="2471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815920" y="2471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452400" y="247176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079520" y="2471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5116680" y="352440"/>
            <a:ext cx="4394160" cy="2863800"/>
            <a:chOff x="5116680" y="352440"/>
            <a:chExt cx="4394160" cy="2863800"/>
          </a:xfrm>
        </p:grpSpPr>
        <p:sp>
          <p:nvSpPr>
            <p:cNvPr id="742" name=""/>
            <p:cNvSpPr/>
            <p:nvPr/>
          </p:nvSpPr>
          <p:spPr>
            <a:xfrm>
              <a:off x="5116680" y="352440"/>
              <a:ext cx="439416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572080" y="16905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204240" y="16891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832800" y="16891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462800" y="16891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099640" y="168912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728200" y="16891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572080" y="2076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204240" y="207504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832800" y="207504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462800" y="20750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099640" y="2075040"/>
              <a:ext cx="2966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728200" y="207504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437440" y="10191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37440" y="141300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437440" y="18111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437440" y="220968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437440" y="26035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437440" y="6253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572080" y="28814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204240" y="2879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832800" y="2879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462800" y="2879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099640" y="287964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726760" y="2879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72080" y="8938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204240" y="8920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832800" y="8920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462800" y="8920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099640" y="89208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726760" y="8920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57208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204240" y="1290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832800" y="1290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462800" y="1290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099640" y="129060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726760" y="1290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572080" y="2471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204240" y="24703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832800" y="24703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462800" y="247032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099640" y="2470320"/>
              <a:ext cx="2966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8726760" y="24703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5116680" y="3454560"/>
            <a:ext cx="4394160" cy="2863800"/>
            <a:chOff x="5116680" y="3454560"/>
            <a:chExt cx="4394160" cy="2863800"/>
          </a:xfrm>
        </p:grpSpPr>
        <p:sp>
          <p:nvSpPr>
            <p:cNvPr id="786" name=""/>
            <p:cNvSpPr/>
            <p:nvPr/>
          </p:nvSpPr>
          <p:spPr>
            <a:xfrm>
              <a:off x="5116680" y="3454560"/>
              <a:ext cx="439416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572440" y="4387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04240" y="43862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3280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463160" y="43862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099640" y="438624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72820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572440" y="4786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204240" y="478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83280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463160" y="478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099640" y="478476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72820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572440" y="51814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204240" y="51800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83280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63160" y="51800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099640" y="518004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72820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572440" y="55674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204240" y="5565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83280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463160" y="5565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099640" y="556560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72820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437440" y="41403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437440" y="45435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437440" y="49323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437440" y="533088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437440" y="57243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437440" y="37465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2440" y="59641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204240" y="5962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83280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463160" y="5962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099640" y="596268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72820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572440" y="3995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204240" y="3994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83280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463160" y="3994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099640" y="399420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72820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29" name=""/>
          <p:cNvGraphicFramePr/>
          <p:nvPr/>
        </p:nvGraphicFramePr>
        <p:xfrm>
          <a:off x="790560" y="638280"/>
          <a:ext cx="8381880" cy="550548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8840"/>
                <a:gridCol w="648000"/>
                <a:gridCol w="857160"/>
                <a:gridCol w="619200"/>
                <a:gridCol w="618840"/>
                <a:gridCol w="628920"/>
                <a:gridCol w="637920"/>
                <a:gridCol w="609840"/>
                <a:gridCol w="637920"/>
              </a:tblGrid>
              <a:tr h="409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0" name=""/>
          <p:cNvGrpSpPr/>
          <p:nvPr/>
        </p:nvGrpSpPr>
        <p:grpSpPr>
          <a:xfrm>
            <a:off x="473040" y="3456000"/>
            <a:ext cx="4394160" cy="2863800"/>
            <a:chOff x="473040" y="3456000"/>
            <a:chExt cx="4394160" cy="2863800"/>
          </a:xfrm>
        </p:grpSpPr>
        <p:sp>
          <p:nvSpPr>
            <p:cNvPr id="831" name=""/>
            <p:cNvSpPr/>
            <p:nvPr/>
          </p:nvSpPr>
          <p:spPr>
            <a:xfrm>
              <a:off x="473040" y="3456000"/>
              <a:ext cx="4394160" cy="2863800"/>
            </a:xfrm>
            <a:prstGeom prst="roundRect">
              <a:avLst>
                <a:gd name="adj" fmla="val 1001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928800" y="43894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560600" y="4387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189160" y="4387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819520" y="4387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56000" y="438768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084560" y="438768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928800" y="47880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560600" y="4786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189160" y="4786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819520" y="4786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456000" y="478620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084560" y="4786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928800" y="51832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560600" y="51814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189160" y="51814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819520" y="51814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456000" y="518148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084560" y="518148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928800" y="5568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560600" y="55674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189160" y="55674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819520" y="55674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456000" y="556740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084560" y="55674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928800" y="59659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560600" y="59641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189160" y="59641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819520" y="59641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456000" y="596412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084560" y="596412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928800" y="399744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560600" y="3995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189160" y="3995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819520" y="3995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456000" y="399564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084560" y="39956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5116680" y="3454560"/>
            <a:ext cx="4394160" cy="2863800"/>
            <a:chOff x="5116680" y="3454560"/>
            <a:chExt cx="4394160" cy="2863800"/>
          </a:xfrm>
        </p:grpSpPr>
        <p:sp>
          <p:nvSpPr>
            <p:cNvPr id="869" name=""/>
            <p:cNvSpPr/>
            <p:nvPr/>
          </p:nvSpPr>
          <p:spPr>
            <a:xfrm>
              <a:off x="5116680" y="3454560"/>
              <a:ext cx="4394160" cy="2863800"/>
            </a:xfrm>
            <a:prstGeom prst="roundRect">
              <a:avLst>
                <a:gd name="adj" fmla="val 1001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72440" y="438768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204240" y="438624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3424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464600" y="43862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099640" y="43862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72820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2440" y="478620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204240" y="478476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83424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464600" y="478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099640" y="478476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72820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572440" y="518148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04240" y="518004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83424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64600" y="51800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099640" y="51800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72820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572440" y="556740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04240" y="556560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83424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464600" y="5565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8099640" y="55656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72820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572440" y="596412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204240" y="596268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3424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464600" y="5962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099640" y="596268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72820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572440" y="399564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204240" y="399420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83424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464600" y="3994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099640" y="3994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72820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469800" y="352440"/>
            <a:ext cx="4394160" cy="2863800"/>
            <a:chOff x="469800" y="352440"/>
            <a:chExt cx="4394160" cy="2863800"/>
          </a:xfrm>
        </p:grpSpPr>
        <p:sp>
          <p:nvSpPr>
            <p:cNvPr id="907" name=""/>
            <p:cNvSpPr/>
            <p:nvPr/>
          </p:nvSpPr>
          <p:spPr>
            <a:xfrm>
              <a:off x="469800" y="352440"/>
              <a:ext cx="4394160" cy="2863800"/>
            </a:xfrm>
            <a:prstGeom prst="roundRect">
              <a:avLst>
                <a:gd name="adj" fmla="val 1001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925560" y="129528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557360" y="129384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87720" y="1293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817720" y="1293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452760" y="12938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081320" y="1293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925560" y="169380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557360" y="169236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187720" y="16923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817720" y="1692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452760" y="169236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081320" y="1692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925560" y="207972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557360" y="207792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87720" y="20779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817720" y="2077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452760" y="207792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081320" y="2077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925560" y="247500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557360" y="247320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87720" y="2473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817720" y="2473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452760" y="2473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081320" y="2473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925560" y="289080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57360" y="2889360"/>
              <a:ext cx="3016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187720" y="288936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817720" y="288936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452760" y="288936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081320" y="288936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925560" y="893880"/>
              <a:ext cx="3016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57360" y="89208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187720" y="8920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817720" y="8920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452760" y="89208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081320" y="8920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4" name=""/>
          <p:cNvGrpSpPr/>
          <p:nvPr/>
        </p:nvGrpSpPr>
        <p:grpSpPr>
          <a:xfrm>
            <a:off x="5116680" y="352440"/>
            <a:ext cx="4394160" cy="2863800"/>
            <a:chOff x="5116680" y="352440"/>
            <a:chExt cx="4394160" cy="2863800"/>
          </a:xfrm>
        </p:grpSpPr>
        <p:sp>
          <p:nvSpPr>
            <p:cNvPr id="945" name=""/>
            <p:cNvSpPr/>
            <p:nvPr/>
          </p:nvSpPr>
          <p:spPr>
            <a:xfrm>
              <a:off x="5116680" y="352440"/>
              <a:ext cx="4394160" cy="2863800"/>
            </a:xfrm>
            <a:prstGeom prst="roundRect">
              <a:avLst>
                <a:gd name="adj" fmla="val 1001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572440" y="129528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204240" y="129384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834240" y="1293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464600" y="1293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099640" y="12938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728200" y="1293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572440" y="169380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204240" y="169236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834240" y="1692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464600" y="16923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099640" y="169236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8728200" y="1692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572440" y="207972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204240" y="207792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834240" y="2077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464600" y="20779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099640" y="207792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728200" y="2077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572440" y="247500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204240" y="247320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834240" y="2473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464600" y="2473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8099640" y="2473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8728200" y="2473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572440" y="289080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204240" y="2889360"/>
              <a:ext cx="3016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834240" y="288936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464600" y="288936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099640" y="288936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728200" y="288936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572440" y="893880"/>
              <a:ext cx="3016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204240" y="89208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834240" y="8920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464600" y="8920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8099640" y="89208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8728200" y="8920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983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4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985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986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8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991" name=""/>
          <p:cNvGraphicFramePr/>
          <p:nvPr/>
        </p:nvGraphicFramePr>
        <p:xfrm>
          <a:off x="790560" y="638280"/>
          <a:ext cx="8381880" cy="550548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8840"/>
                <a:gridCol w="648000"/>
                <a:gridCol w="857160"/>
                <a:gridCol w="619200"/>
                <a:gridCol w="618840"/>
                <a:gridCol w="628920"/>
                <a:gridCol w="637920"/>
                <a:gridCol w="609840"/>
                <a:gridCol w="637920"/>
              </a:tblGrid>
              <a:tr h="409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2" name=""/>
          <p:cNvGrpSpPr/>
          <p:nvPr/>
        </p:nvGrpSpPr>
        <p:grpSpPr>
          <a:xfrm>
            <a:off x="473040" y="3456000"/>
            <a:ext cx="4394160" cy="2863800"/>
            <a:chOff x="473040" y="3456000"/>
            <a:chExt cx="4394160" cy="2863800"/>
          </a:xfrm>
        </p:grpSpPr>
        <p:sp>
          <p:nvSpPr>
            <p:cNvPr id="993" name=""/>
            <p:cNvSpPr/>
            <p:nvPr/>
          </p:nvSpPr>
          <p:spPr>
            <a:xfrm>
              <a:off x="473040" y="3456000"/>
              <a:ext cx="4394160" cy="2863800"/>
            </a:xfrm>
            <a:prstGeom prst="roundRect">
              <a:avLst>
                <a:gd name="adj" fmla="val 1001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928440" y="4389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560600" y="4387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89160" y="4387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819520" y="4387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455280" y="4387680"/>
              <a:ext cx="29772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084200" y="4387680"/>
              <a:ext cx="2988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928440" y="47880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560600" y="4786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189160" y="4786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19520" y="4786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455280" y="4786200"/>
              <a:ext cx="29772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084200" y="4786200"/>
              <a:ext cx="2988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928440" y="51832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560600" y="5181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189160" y="5181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19520" y="5181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455280" y="5181480"/>
              <a:ext cx="29772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084200" y="5181480"/>
              <a:ext cx="2988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928440" y="5568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560600" y="556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189160" y="556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19520" y="556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455280" y="5567400"/>
              <a:ext cx="29772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84200" y="5567400"/>
              <a:ext cx="2988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8" name=""/>
            <p:cNvGrpSpPr/>
            <p:nvPr/>
          </p:nvGrpSpPr>
          <p:grpSpPr>
            <a:xfrm>
              <a:off x="793440" y="3747960"/>
              <a:ext cx="3744720" cy="2136960"/>
              <a:chOff x="793440" y="3747960"/>
              <a:chExt cx="3744720" cy="2136960"/>
            </a:xfrm>
          </p:grpSpPr>
          <p:sp>
            <p:nvSpPr>
              <p:cNvPr id="1019" name=""/>
              <p:cNvSpPr/>
              <p:nvPr/>
            </p:nvSpPr>
            <p:spPr>
              <a:xfrm>
                <a:off x="793440" y="4141800"/>
                <a:ext cx="3744720" cy="158760"/>
              </a:xfrm>
              <a:prstGeom prst="roundRect">
                <a:avLst>
                  <a:gd name="adj" fmla="val 6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93440" y="4545000"/>
                <a:ext cx="3744720" cy="158760"/>
              </a:xfrm>
              <a:prstGeom prst="roundRect">
                <a:avLst>
                  <a:gd name="adj" fmla="val 6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93440" y="4933800"/>
                <a:ext cx="3744720" cy="158760"/>
              </a:xfrm>
              <a:prstGeom prst="roundRect">
                <a:avLst>
                  <a:gd name="adj" fmla="val 6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93440" y="5332320"/>
                <a:ext cx="3744720" cy="158760"/>
              </a:xfrm>
              <a:prstGeom prst="roundRect">
                <a:avLst>
                  <a:gd name="adj" fmla="val 6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93440" y="5726160"/>
                <a:ext cx="3744720" cy="158760"/>
              </a:xfrm>
              <a:prstGeom prst="roundRect">
                <a:avLst>
                  <a:gd name="adj" fmla="val 6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93440" y="3747960"/>
                <a:ext cx="3744720" cy="158760"/>
              </a:xfrm>
              <a:prstGeom prst="roundRect">
                <a:avLst>
                  <a:gd name="adj" fmla="val 6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5" name=""/>
            <p:cNvSpPr/>
            <p:nvPr/>
          </p:nvSpPr>
          <p:spPr>
            <a:xfrm>
              <a:off x="928440" y="596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560600" y="59641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189160" y="59641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819520" y="59641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455280" y="5964120"/>
              <a:ext cx="29772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84200" y="5964120"/>
              <a:ext cx="2988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928440" y="39974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560600" y="3995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189160" y="3995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819520" y="3995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455280" y="3995640"/>
              <a:ext cx="29772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084200" y="3995640"/>
              <a:ext cx="2988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5116680" y="3454560"/>
            <a:ext cx="4394160" cy="2863800"/>
            <a:chOff x="5116680" y="3454560"/>
            <a:chExt cx="4394160" cy="2863800"/>
          </a:xfrm>
        </p:grpSpPr>
        <p:sp>
          <p:nvSpPr>
            <p:cNvPr id="1038" name=""/>
            <p:cNvSpPr/>
            <p:nvPr/>
          </p:nvSpPr>
          <p:spPr>
            <a:xfrm>
              <a:off x="5116680" y="3454560"/>
              <a:ext cx="4394160" cy="2863800"/>
            </a:xfrm>
            <a:prstGeom prst="roundRect">
              <a:avLst>
                <a:gd name="adj" fmla="val 1001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572800" y="4387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20424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83352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46388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8098920" y="4386240"/>
              <a:ext cx="2988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872784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572800" y="4786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20424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83352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46388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8098920" y="4784760"/>
              <a:ext cx="2988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872784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572800" y="5181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20424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83352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46388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098920" y="5180040"/>
              <a:ext cx="2988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72784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572800" y="556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20424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83352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46388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098920" y="5565600"/>
              <a:ext cx="2988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72784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3" name=""/>
            <p:cNvGrpSpPr/>
            <p:nvPr/>
          </p:nvGrpSpPr>
          <p:grpSpPr>
            <a:xfrm>
              <a:off x="5437800" y="3746520"/>
              <a:ext cx="3745800" cy="2136240"/>
              <a:chOff x="5437800" y="3746520"/>
              <a:chExt cx="3745800" cy="2136240"/>
            </a:xfrm>
          </p:grpSpPr>
          <p:sp>
            <p:nvSpPr>
              <p:cNvPr id="1064" name=""/>
              <p:cNvSpPr/>
              <p:nvPr/>
            </p:nvSpPr>
            <p:spPr>
              <a:xfrm>
                <a:off x="5437800" y="4140000"/>
                <a:ext cx="3745800" cy="158400"/>
              </a:xfrm>
              <a:prstGeom prst="roundRect">
                <a:avLst>
                  <a:gd name="adj" fmla="val 6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437800" y="4543200"/>
                <a:ext cx="3745800" cy="158400"/>
              </a:xfrm>
              <a:prstGeom prst="roundRect">
                <a:avLst>
                  <a:gd name="adj" fmla="val 6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37800" y="4932000"/>
                <a:ext cx="3745800" cy="158400"/>
              </a:xfrm>
              <a:prstGeom prst="roundRect">
                <a:avLst>
                  <a:gd name="adj" fmla="val 6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437800" y="5330520"/>
                <a:ext cx="3745800" cy="158400"/>
              </a:xfrm>
              <a:prstGeom prst="roundRect">
                <a:avLst>
                  <a:gd name="adj" fmla="val 6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437800" y="5724360"/>
                <a:ext cx="3745800" cy="158400"/>
              </a:xfrm>
              <a:prstGeom prst="roundRect">
                <a:avLst>
                  <a:gd name="adj" fmla="val 6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437800" y="3746520"/>
                <a:ext cx="3745800" cy="158400"/>
              </a:xfrm>
              <a:prstGeom prst="roundRect">
                <a:avLst>
                  <a:gd name="adj" fmla="val 6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0" name=""/>
            <p:cNvSpPr/>
            <p:nvPr/>
          </p:nvSpPr>
          <p:spPr>
            <a:xfrm>
              <a:off x="5572800" y="59641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20424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83352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46388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098920" y="5962680"/>
              <a:ext cx="2988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72784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572800" y="3995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20424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83352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46388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098920" y="3994200"/>
              <a:ext cx="2988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72784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469800" y="352440"/>
            <a:ext cx="4394160" cy="2863800"/>
            <a:chOff x="469800" y="352440"/>
            <a:chExt cx="4394160" cy="2863800"/>
          </a:xfrm>
        </p:grpSpPr>
        <p:sp>
          <p:nvSpPr>
            <p:cNvPr id="1083" name=""/>
            <p:cNvSpPr/>
            <p:nvPr/>
          </p:nvSpPr>
          <p:spPr>
            <a:xfrm>
              <a:off x="469800" y="352440"/>
              <a:ext cx="4394160" cy="2863800"/>
            </a:xfrm>
            <a:prstGeom prst="roundRect">
              <a:avLst>
                <a:gd name="adj" fmla="val 1001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925560" y="12952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557360" y="1293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186640" y="1293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817000" y="1293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451680" y="1293840"/>
              <a:ext cx="29916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080960" y="1293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925560" y="16938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557360" y="1692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186640" y="1692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817000" y="1692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451680" y="1692360"/>
              <a:ext cx="29916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080960" y="1692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925560" y="20797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557360" y="2077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186640" y="2077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817000" y="2077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451680" y="2077920"/>
              <a:ext cx="29916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80960" y="2077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925560" y="24750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557360" y="2473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186640" y="2473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817000" y="2473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451680" y="2473200"/>
              <a:ext cx="29916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80960" y="2473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90920" y="1038240"/>
              <a:ext cx="374580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90920" y="1441440"/>
              <a:ext cx="374580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90920" y="1830240"/>
              <a:ext cx="374580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90920" y="2228760"/>
              <a:ext cx="374580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90920" y="2622600"/>
              <a:ext cx="374580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90920" y="625320"/>
              <a:ext cx="374580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925560" y="28908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557360" y="288936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186640" y="288936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817000" y="288936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451680" y="2889360"/>
              <a:ext cx="29916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080960" y="288936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925560" y="8938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557360" y="8920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186640" y="8920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817000" y="8920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451680" y="892080"/>
              <a:ext cx="29916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080960" y="8920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6" name=""/>
          <p:cNvGrpSpPr/>
          <p:nvPr/>
        </p:nvGrpSpPr>
        <p:grpSpPr>
          <a:xfrm>
            <a:off x="5116680" y="352440"/>
            <a:ext cx="4394160" cy="2863800"/>
            <a:chOff x="5116680" y="352440"/>
            <a:chExt cx="4394160" cy="2863800"/>
          </a:xfrm>
        </p:grpSpPr>
        <p:sp>
          <p:nvSpPr>
            <p:cNvPr id="1127" name=""/>
            <p:cNvSpPr/>
            <p:nvPr/>
          </p:nvSpPr>
          <p:spPr>
            <a:xfrm>
              <a:off x="5116680" y="352440"/>
              <a:ext cx="4394160" cy="2863800"/>
            </a:xfrm>
            <a:prstGeom prst="roundRect">
              <a:avLst>
                <a:gd name="adj" fmla="val 1001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572800" y="12952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204240" y="1293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833520" y="1293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463880" y="1293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8098920" y="1293840"/>
              <a:ext cx="2988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8727840" y="1293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572800" y="16938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204240" y="1692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833520" y="1692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463880" y="1692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098920" y="1692360"/>
              <a:ext cx="2988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8727840" y="1692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572800" y="20797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204240" y="2077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33520" y="2077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463880" y="2077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098920" y="2077920"/>
              <a:ext cx="2988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8727840" y="2077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72800" y="24750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204240" y="2473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833520" y="2473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463880" y="2473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098920" y="2473200"/>
              <a:ext cx="2988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8727840" y="2473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437800" y="103824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437800" y="144144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437800" y="183024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437800" y="222876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437800" y="262260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437800" y="62532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572800" y="28908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204240" y="288936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833520" y="288936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463880" y="288936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098920" y="2889360"/>
              <a:ext cx="29880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8727840" y="288936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572800" y="8938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204240" y="8920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833520" y="8920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463880" y="8920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8098920" y="892080"/>
              <a:ext cx="2988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8727840" y="8920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0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1171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2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1173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1174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6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179" name=""/>
          <p:cNvGraphicFramePr/>
          <p:nvPr/>
        </p:nvGraphicFramePr>
        <p:xfrm>
          <a:off x="790560" y="638280"/>
          <a:ext cx="8381880" cy="550548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8840"/>
                <a:gridCol w="648000"/>
                <a:gridCol w="857160"/>
                <a:gridCol w="619200"/>
                <a:gridCol w="618840"/>
                <a:gridCol w="628920"/>
                <a:gridCol w="637920"/>
                <a:gridCol w="609840"/>
                <a:gridCol w="637920"/>
              </a:tblGrid>
              <a:tr h="409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"/>
          <p:cNvGrpSpPr/>
          <p:nvPr/>
        </p:nvGrpSpPr>
        <p:grpSpPr>
          <a:xfrm>
            <a:off x="473040" y="3456000"/>
            <a:ext cx="4394160" cy="2863800"/>
            <a:chOff x="473040" y="3456000"/>
            <a:chExt cx="4394160" cy="2863800"/>
          </a:xfrm>
        </p:grpSpPr>
        <p:sp>
          <p:nvSpPr>
            <p:cNvPr id="1181" name=""/>
            <p:cNvSpPr/>
            <p:nvPr/>
          </p:nvSpPr>
          <p:spPr>
            <a:xfrm>
              <a:off x="473040" y="3456000"/>
              <a:ext cx="4394160" cy="2863800"/>
            </a:xfrm>
            <a:prstGeom prst="roundRect">
              <a:avLst>
                <a:gd name="adj" fmla="val 10014"/>
              </a:avLst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928800" y="43894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560600" y="4387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189160" y="4387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819520" y="4387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456000" y="438768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084560" y="438768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928800" y="47880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560600" y="4786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189160" y="4786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819520" y="4786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456000" y="478620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084560" y="4786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928800" y="51832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560600" y="51814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189160" y="51814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819520" y="51814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456000" y="518148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084560" y="518148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928800" y="5568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560600" y="55674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189160" y="55674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819520" y="55674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456000" y="556740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084560" y="55674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928800" y="59659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560600" y="59641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189160" y="59641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819520" y="59641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456000" y="596412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084560" y="596412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928800" y="399744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560600" y="3995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189160" y="3995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819520" y="3995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456000" y="399564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084560" y="39956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5116680" y="3454560"/>
            <a:ext cx="4394160" cy="2863800"/>
            <a:chOff x="5116680" y="3454560"/>
            <a:chExt cx="4394160" cy="2863800"/>
          </a:xfrm>
        </p:grpSpPr>
        <p:sp>
          <p:nvSpPr>
            <p:cNvPr id="1219" name=""/>
            <p:cNvSpPr/>
            <p:nvPr/>
          </p:nvSpPr>
          <p:spPr>
            <a:xfrm>
              <a:off x="5116680" y="3454560"/>
              <a:ext cx="4394160" cy="2863800"/>
            </a:xfrm>
            <a:prstGeom prst="roundRect">
              <a:avLst>
                <a:gd name="adj" fmla="val 10014"/>
              </a:avLst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572440" y="438768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204240" y="438624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83424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464600" y="43862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8099640" y="43862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872820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572440" y="478620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204240" y="478476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83424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464600" y="478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8099640" y="478476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872820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572440" y="518148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204240" y="518004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83424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464600" y="51800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099640" y="51800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872820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572440" y="556740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204240" y="556560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83424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464600" y="5565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8099640" y="55656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872820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572440" y="596412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204240" y="596268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83424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464600" y="5962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8099640" y="596268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72820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572440" y="399564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204240" y="399420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83424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464600" y="3994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8099640" y="3994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872820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469800" y="352440"/>
            <a:ext cx="4394160" cy="2863800"/>
            <a:chOff x="469800" y="352440"/>
            <a:chExt cx="4394160" cy="2863800"/>
          </a:xfrm>
        </p:grpSpPr>
        <p:sp>
          <p:nvSpPr>
            <p:cNvPr id="1257" name=""/>
            <p:cNvSpPr/>
            <p:nvPr/>
          </p:nvSpPr>
          <p:spPr>
            <a:xfrm>
              <a:off x="469800" y="352440"/>
              <a:ext cx="4394160" cy="2863800"/>
            </a:xfrm>
            <a:prstGeom prst="roundRect">
              <a:avLst>
                <a:gd name="adj" fmla="val 10014"/>
              </a:avLst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925560" y="129528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557360" y="129384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187720" y="1293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817720" y="1293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452760" y="12938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081320" y="1293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925560" y="169380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557360" y="169236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187720" y="16923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817720" y="1692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452760" y="169236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081320" y="1692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925560" y="207972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557360" y="207792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187720" y="20779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817720" y="2077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452760" y="207792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081320" y="2077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925560" y="247500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557360" y="247320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187720" y="2473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817720" y="2473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452760" y="2473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081320" y="2473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925560" y="289080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557360" y="2889360"/>
              <a:ext cx="3016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187720" y="288936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817720" y="288936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452760" y="288936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081320" y="288936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925560" y="893880"/>
              <a:ext cx="3016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557360" y="89208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187720" y="8920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817720" y="8920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452760" y="89208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081320" y="8920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5116680" y="352440"/>
            <a:ext cx="4394160" cy="2863800"/>
            <a:chOff x="5116680" y="352440"/>
            <a:chExt cx="4394160" cy="2863800"/>
          </a:xfrm>
        </p:grpSpPr>
        <p:sp>
          <p:nvSpPr>
            <p:cNvPr id="1295" name=""/>
            <p:cNvSpPr/>
            <p:nvPr/>
          </p:nvSpPr>
          <p:spPr>
            <a:xfrm>
              <a:off x="5116680" y="352440"/>
              <a:ext cx="4394160" cy="2863800"/>
            </a:xfrm>
            <a:prstGeom prst="roundRect">
              <a:avLst>
                <a:gd name="adj" fmla="val 10014"/>
              </a:avLst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572440" y="129528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204240" y="129384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834240" y="1293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464600" y="1293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8099640" y="12938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8728200" y="1293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572440" y="169380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204240" y="169236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834240" y="1692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464600" y="16923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8099640" y="169236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8728200" y="1692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572440" y="207972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204240" y="207792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834240" y="2077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464600" y="20779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099640" y="207792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8728200" y="2077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572440" y="247500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204240" y="247320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834240" y="2473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464600" y="2473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8099640" y="2473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8728200" y="2473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572440" y="289080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204240" y="2889360"/>
              <a:ext cx="3016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834240" y="288936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464600" y="288936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8099640" y="288936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8728200" y="288936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572440" y="893880"/>
              <a:ext cx="3016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204240" y="89208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834240" y="8920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464600" y="8920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8099640" y="89208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8728200" y="8920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2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1333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4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1335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1336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8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341" name=""/>
          <p:cNvGraphicFramePr/>
          <p:nvPr/>
        </p:nvGraphicFramePr>
        <p:xfrm>
          <a:off x="790560" y="638280"/>
          <a:ext cx="8381880" cy="552744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8840"/>
                <a:gridCol w="648000"/>
                <a:gridCol w="857160"/>
                <a:gridCol w="619200"/>
                <a:gridCol w="618840"/>
                <a:gridCol w="628920"/>
                <a:gridCol w="637920"/>
                <a:gridCol w="609840"/>
                <a:gridCol w="637920"/>
              </a:tblGrid>
              <a:tr h="409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2" name=""/>
          <p:cNvGrpSpPr/>
          <p:nvPr/>
        </p:nvGrpSpPr>
        <p:grpSpPr>
          <a:xfrm>
            <a:off x="473040" y="3456000"/>
            <a:ext cx="4394160" cy="2863800"/>
            <a:chOff x="473040" y="3456000"/>
            <a:chExt cx="4394160" cy="2863800"/>
          </a:xfrm>
        </p:grpSpPr>
        <p:sp>
          <p:nvSpPr>
            <p:cNvPr id="1343" name=""/>
            <p:cNvSpPr/>
            <p:nvPr/>
          </p:nvSpPr>
          <p:spPr>
            <a:xfrm>
              <a:off x="473040" y="3456000"/>
              <a:ext cx="4394160" cy="2863800"/>
            </a:xfrm>
            <a:prstGeom prst="roundRect">
              <a:avLst>
                <a:gd name="adj" fmla="val 10014"/>
              </a:avLst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928800" y="43894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560600" y="4387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189160" y="4387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819520" y="4387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456000" y="438768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084560" y="438768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928800" y="47880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560600" y="4786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189160" y="4786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819520" y="4786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456000" y="478620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084560" y="4786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928800" y="51832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560600" y="51814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189160" y="51814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819520" y="51814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456000" y="518148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084560" y="518148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928800" y="5568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560600" y="55674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189160" y="55674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819520" y="55674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456000" y="556740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084560" y="55674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8" name=""/>
            <p:cNvGrpSpPr/>
            <p:nvPr/>
          </p:nvGrpSpPr>
          <p:grpSpPr>
            <a:xfrm>
              <a:off x="793800" y="3747960"/>
              <a:ext cx="3744720" cy="2136960"/>
              <a:chOff x="793800" y="3747960"/>
              <a:chExt cx="3744720" cy="2136960"/>
            </a:xfrm>
          </p:grpSpPr>
          <p:sp>
            <p:nvSpPr>
              <p:cNvPr id="1369" name=""/>
              <p:cNvSpPr/>
              <p:nvPr/>
            </p:nvSpPr>
            <p:spPr>
              <a:xfrm>
                <a:off x="793800" y="4141800"/>
                <a:ext cx="3744720" cy="158760"/>
              </a:xfrm>
              <a:prstGeom prst="roundRect">
                <a:avLst>
                  <a:gd name="adj" fmla="val 6426"/>
                </a:avLst>
              </a:prstGeom>
              <a:solidFill>
                <a:srgbClr val="ffffff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793800" y="4545000"/>
                <a:ext cx="3744720" cy="158760"/>
              </a:xfrm>
              <a:prstGeom prst="roundRect">
                <a:avLst>
                  <a:gd name="adj" fmla="val 6426"/>
                </a:avLst>
              </a:prstGeom>
              <a:solidFill>
                <a:srgbClr val="ffffff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93800" y="4933800"/>
                <a:ext cx="3744720" cy="158760"/>
              </a:xfrm>
              <a:prstGeom prst="roundRect">
                <a:avLst>
                  <a:gd name="adj" fmla="val 6426"/>
                </a:avLst>
              </a:prstGeom>
              <a:solidFill>
                <a:srgbClr val="ffffff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93800" y="5332320"/>
                <a:ext cx="3744720" cy="158760"/>
              </a:xfrm>
              <a:prstGeom prst="roundRect">
                <a:avLst>
                  <a:gd name="adj" fmla="val 6426"/>
                </a:avLst>
              </a:prstGeom>
              <a:solidFill>
                <a:srgbClr val="ffffff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93800" y="5726160"/>
                <a:ext cx="3744720" cy="158760"/>
              </a:xfrm>
              <a:prstGeom prst="roundRect">
                <a:avLst>
                  <a:gd name="adj" fmla="val 6426"/>
                </a:avLst>
              </a:prstGeom>
              <a:solidFill>
                <a:srgbClr val="ffffff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93800" y="3747960"/>
                <a:ext cx="3744720" cy="158760"/>
              </a:xfrm>
              <a:prstGeom prst="roundRect">
                <a:avLst>
                  <a:gd name="adj" fmla="val 6426"/>
                </a:avLst>
              </a:prstGeom>
              <a:solidFill>
                <a:srgbClr val="ffffff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5" name=""/>
            <p:cNvSpPr/>
            <p:nvPr/>
          </p:nvSpPr>
          <p:spPr>
            <a:xfrm>
              <a:off x="928800" y="59659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560600" y="59641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189160" y="59641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819520" y="59641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456000" y="596412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084560" y="596412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928800" y="399744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560600" y="3995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189160" y="3995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819520" y="3995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456000" y="399564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084560" y="39956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5116680" y="3454560"/>
            <a:ext cx="4394160" cy="2863800"/>
            <a:chOff x="5116680" y="3454560"/>
            <a:chExt cx="4394160" cy="2863800"/>
          </a:xfrm>
        </p:grpSpPr>
        <p:sp>
          <p:nvSpPr>
            <p:cNvPr id="1388" name=""/>
            <p:cNvSpPr/>
            <p:nvPr/>
          </p:nvSpPr>
          <p:spPr>
            <a:xfrm>
              <a:off x="5116680" y="3454560"/>
              <a:ext cx="4394160" cy="2863800"/>
            </a:xfrm>
            <a:prstGeom prst="roundRect">
              <a:avLst>
                <a:gd name="adj" fmla="val 10014"/>
              </a:avLst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572080" y="438768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203880" y="438624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834240" y="43862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464600" y="43862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8099280" y="43862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8728200" y="43862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572080" y="478620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203880" y="478476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834240" y="478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464600" y="478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8099280" y="478476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8728200" y="478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572080" y="518148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203880" y="518004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834240" y="51800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464600" y="51800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8099280" y="51800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8728200" y="51800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572080" y="556740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203880" y="556560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834240" y="5565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464600" y="5565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8099280" y="55656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8728200" y="5565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3" name=""/>
            <p:cNvGrpSpPr/>
            <p:nvPr/>
          </p:nvGrpSpPr>
          <p:grpSpPr>
            <a:xfrm>
              <a:off x="5437080" y="3746520"/>
              <a:ext cx="3746160" cy="2136240"/>
              <a:chOff x="5437080" y="3746520"/>
              <a:chExt cx="3746160" cy="2136240"/>
            </a:xfrm>
          </p:grpSpPr>
          <p:sp>
            <p:nvSpPr>
              <p:cNvPr id="1414" name=""/>
              <p:cNvSpPr/>
              <p:nvPr/>
            </p:nvSpPr>
            <p:spPr>
              <a:xfrm>
                <a:off x="5437080" y="4140000"/>
                <a:ext cx="3746160" cy="158400"/>
              </a:xfrm>
              <a:prstGeom prst="roundRect">
                <a:avLst>
                  <a:gd name="adj" fmla="val 6426"/>
                </a:avLst>
              </a:prstGeom>
              <a:solidFill>
                <a:srgbClr val="ffffff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5437080" y="4543200"/>
                <a:ext cx="3746160" cy="158400"/>
              </a:xfrm>
              <a:prstGeom prst="roundRect">
                <a:avLst>
                  <a:gd name="adj" fmla="val 6426"/>
                </a:avLst>
              </a:prstGeom>
              <a:solidFill>
                <a:srgbClr val="ffffff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5437080" y="4932000"/>
                <a:ext cx="3746160" cy="158400"/>
              </a:xfrm>
              <a:prstGeom prst="roundRect">
                <a:avLst>
                  <a:gd name="adj" fmla="val 6426"/>
                </a:avLst>
              </a:prstGeom>
              <a:solidFill>
                <a:srgbClr val="ffffff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5437080" y="5330520"/>
                <a:ext cx="3746160" cy="158400"/>
              </a:xfrm>
              <a:prstGeom prst="roundRect">
                <a:avLst>
                  <a:gd name="adj" fmla="val 6426"/>
                </a:avLst>
              </a:prstGeom>
              <a:solidFill>
                <a:srgbClr val="ffffff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5437080" y="5724360"/>
                <a:ext cx="3746160" cy="158400"/>
              </a:xfrm>
              <a:prstGeom prst="roundRect">
                <a:avLst>
                  <a:gd name="adj" fmla="val 6426"/>
                </a:avLst>
              </a:prstGeom>
              <a:solidFill>
                <a:srgbClr val="ffffff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5437080" y="3746520"/>
                <a:ext cx="3746160" cy="158400"/>
              </a:xfrm>
              <a:prstGeom prst="roundRect">
                <a:avLst>
                  <a:gd name="adj" fmla="val 6426"/>
                </a:avLst>
              </a:prstGeom>
              <a:solidFill>
                <a:srgbClr val="ffffff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0" name=""/>
            <p:cNvSpPr/>
            <p:nvPr/>
          </p:nvSpPr>
          <p:spPr>
            <a:xfrm>
              <a:off x="5572080" y="596412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203880" y="596268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834240" y="5962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464600" y="5962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8099280" y="596268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8728200" y="5962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572080" y="399564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203880" y="399420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834240" y="3994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464600" y="3994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8099280" y="3994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8728200" y="3994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2" name=""/>
          <p:cNvGrpSpPr/>
          <p:nvPr/>
        </p:nvGrpSpPr>
        <p:grpSpPr>
          <a:xfrm>
            <a:off x="469800" y="352440"/>
            <a:ext cx="4394160" cy="2863800"/>
            <a:chOff x="469800" y="352440"/>
            <a:chExt cx="4394160" cy="2863800"/>
          </a:xfrm>
        </p:grpSpPr>
        <p:sp>
          <p:nvSpPr>
            <p:cNvPr id="1433" name=""/>
            <p:cNvSpPr/>
            <p:nvPr/>
          </p:nvSpPr>
          <p:spPr>
            <a:xfrm>
              <a:off x="469800" y="352440"/>
              <a:ext cx="4394160" cy="2863800"/>
            </a:xfrm>
            <a:prstGeom prst="roundRect">
              <a:avLst>
                <a:gd name="adj" fmla="val 10014"/>
              </a:avLst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925560" y="129528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557360" y="129384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187720" y="1293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817720" y="1293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452760" y="12938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081320" y="1293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925560" y="169380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557360" y="169236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187720" y="16923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817720" y="1692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3452760" y="169236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081320" y="1692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925560" y="207972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557360" y="207792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187720" y="20779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817720" y="2077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452760" y="207792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081320" y="2077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925560" y="247500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557360" y="247320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187720" y="2473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817720" y="2473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452760" y="2473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081320" y="2473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8" name=""/>
            <p:cNvGrpSpPr/>
            <p:nvPr/>
          </p:nvGrpSpPr>
          <p:grpSpPr>
            <a:xfrm>
              <a:off x="790560" y="625320"/>
              <a:ext cx="3746520" cy="2156040"/>
              <a:chOff x="790560" y="625320"/>
              <a:chExt cx="3746520" cy="2156040"/>
            </a:xfrm>
          </p:grpSpPr>
          <p:sp>
            <p:nvSpPr>
              <p:cNvPr id="1459" name=""/>
              <p:cNvSpPr/>
              <p:nvPr/>
            </p:nvSpPr>
            <p:spPr>
              <a:xfrm>
                <a:off x="790560" y="1038240"/>
                <a:ext cx="3746520" cy="158760"/>
              </a:xfrm>
              <a:prstGeom prst="roundRect">
                <a:avLst>
                  <a:gd name="adj" fmla="val 6426"/>
                </a:avLst>
              </a:prstGeom>
              <a:solidFill>
                <a:srgbClr val="ffffff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790560" y="1441440"/>
                <a:ext cx="3746520" cy="158760"/>
              </a:xfrm>
              <a:prstGeom prst="roundRect">
                <a:avLst>
                  <a:gd name="adj" fmla="val 6426"/>
                </a:avLst>
              </a:prstGeom>
              <a:solidFill>
                <a:srgbClr val="ffffff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790560" y="1830240"/>
                <a:ext cx="3746520" cy="158760"/>
              </a:xfrm>
              <a:prstGeom prst="roundRect">
                <a:avLst>
                  <a:gd name="adj" fmla="val 6426"/>
                </a:avLst>
              </a:prstGeom>
              <a:solidFill>
                <a:srgbClr val="ffffff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790560" y="2228760"/>
                <a:ext cx="3746520" cy="158760"/>
              </a:xfrm>
              <a:prstGeom prst="roundRect">
                <a:avLst>
                  <a:gd name="adj" fmla="val 6426"/>
                </a:avLst>
              </a:prstGeom>
              <a:solidFill>
                <a:srgbClr val="ffffff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790560" y="2622600"/>
                <a:ext cx="3746520" cy="158760"/>
              </a:xfrm>
              <a:prstGeom prst="roundRect">
                <a:avLst>
                  <a:gd name="adj" fmla="val 6426"/>
                </a:avLst>
              </a:prstGeom>
              <a:solidFill>
                <a:srgbClr val="ffffff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790560" y="625320"/>
                <a:ext cx="3746520" cy="158760"/>
              </a:xfrm>
              <a:prstGeom prst="roundRect">
                <a:avLst>
                  <a:gd name="adj" fmla="val 6426"/>
                </a:avLst>
              </a:prstGeom>
              <a:solidFill>
                <a:srgbClr val="ffffff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5" name=""/>
            <p:cNvSpPr/>
            <p:nvPr/>
          </p:nvSpPr>
          <p:spPr>
            <a:xfrm>
              <a:off x="925560" y="289080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557360" y="2889360"/>
              <a:ext cx="3016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187720" y="288936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817720" y="288936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452760" y="288936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081320" y="288936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925560" y="893880"/>
              <a:ext cx="3016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557360" y="89208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187720" y="8920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817720" y="8920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3452760" y="89208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081320" y="8920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5116680" y="352440"/>
            <a:ext cx="4394160" cy="2863800"/>
            <a:chOff x="5116680" y="352440"/>
            <a:chExt cx="4394160" cy="2863800"/>
          </a:xfrm>
        </p:grpSpPr>
        <p:sp>
          <p:nvSpPr>
            <p:cNvPr id="1478" name=""/>
            <p:cNvSpPr/>
            <p:nvPr/>
          </p:nvSpPr>
          <p:spPr>
            <a:xfrm>
              <a:off x="5116680" y="352440"/>
              <a:ext cx="4394160" cy="2863800"/>
            </a:xfrm>
            <a:prstGeom prst="roundRect">
              <a:avLst>
                <a:gd name="adj" fmla="val 10014"/>
              </a:avLst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572080" y="129528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203880" y="129384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834240" y="1293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464600" y="1293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8099280" y="12938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8728200" y="1293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572080" y="169380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203880" y="169236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834240" y="16923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464600" y="16923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8099280" y="169236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8728200" y="16923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572080" y="207972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203880" y="207792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834240" y="20779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464600" y="20779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8099280" y="207792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8728200" y="20779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572080" y="247500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203880" y="247320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834240" y="2473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464600" y="2473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099280" y="2473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728200" y="2473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3" name=""/>
            <p:cNvGrpSpPr/>
            <p:nvPr/>
          </p:nvGrpSpPr>
          <p:grpSpPr>
            <a:xfrm>
              <a:off x="5437080" y="625320"/>
              <a:ext cx="3746520" cy="2156040"/>
              <a:chOff x="5437080" y="625320"/>
              <a:chExt cx="3746520" cy="2156040"/>
            </a:xfrm>
          </p:grpSpPr>
          <p:sp>
            <p:nvSpPr>
              <p:cNvPr id="1504" name=""/>
              <p:cNvSpPr/>
              <p:nvPr/>
            </p:nvSpPr>
            <p:spPr>
              <a:xfrm>
                <a:off x="5437080" y="1038240"/>
                <a:ext cx="3746520" cy="158760"/>
              </a:xfrm>
              <a:prstGeom prst="roundRect">
                <a:avLst>
                  <a:gd name="adj" fmla="val 6426"/>
                </a:avLst>
              </a:prstGeom>
              <a:solidFill>
                <a:srgbClr val="ffffff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5437080" y="1441440"/>
                <a:ext cx="3746520" cy="158760"/>
              </a:xfrm>
              <a:prstGeom prst="roundRect">
                <a:avLst>
                  <a:gd name="adj" fmla="val 6426"/>
                </a:avLst>
              </a:prstGeom>
              <a:solidFill>
                <a:srgbClr val="ffffff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5437080" y="1830240"/>
                <a:ext cx="3746520" cy="158760"/>
              </a:xfrm>
              <a:prstGeom prst="roundRect">
                <a:avLst>
                  <a:gd name="adj" fmla="val 6426"/>
                </a:avLst>
              </a:prstGeom>
              <a:solidFill>
                <a:srgbClr val="ffffff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5437080" y="2228760"/>
                <a:ext cx="3746520" cy="158760"/>
              </a:xfrm>
              <a:prstGeom prst="roundRect">
                <a:avLst>
                  <a:gd name="adj" fmla="val 6426"/>
                </a:avLst>
              </a:prstGeom>
              <a:solidFill>
                <a:srgbClr val="ffffff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5437080" y="2622600"/>
                <a:ext cx="3746520" cy="158760"/>
              </a:xfrm>
              <a:prstGeom prst="roundRect">
                <a:avLst>
                  <a:gd name="adj" fmla="val 6426"/>
                </a:avLst>
              </a:prstGeom>
              <a:solidFill>
                <a:srgbClr val="ffffff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5437080" y="625320"/>
                <a:ext cx="3746520" cy="158760"/>
              </a:xfrm>
              <a:prstGeom prst="roundRect">
                <a:avLst>
                  <a:gd name="adj" fmla="val 6426"/>
                </a:avLst>
              </a:prstGeom>
              <a:solidFill>
                <a:srgbClr val="ffffff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0" name=""/>
            <p:cNvSpPr/>
            <p:nvPr/>
          </p:nvSpPr>
          <p:spPr>
            <a:xfrm>
              <a:off x="5572080" y="289080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203880" y="2889360"/>
              <a:ext cx="3016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834240" y="288936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464600" y="288936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099280" y="288936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8728200" y="288936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572080" y="893880"/>
              <a:ext cx="3016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203880" y="892080"/>
              <a:ext cx="3016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834240" y="8920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464600" y="8920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8099280" y="89208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728200" y="8920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2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1523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4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1525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1526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8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531" name=""/>
          <p:cNvGraphicFramePr/>
          <p:nvPr/>
        </p:nvGraphicFramePr>
        <p:xfrm>
          <a:off x="790560" y="638280"/>
          <a:ext cx="8381880" cy="552744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8840"/>
                <a:gridCol w="648000"/>
                <a:gridCol w="857160"/>
                <a:gridCol w="619200"/>
                <a:gridCol w="618840"/>
                <a:gridCol w="628920"/>
                <a:gridCol w="637920"/>
                <a:gridCol w="609840"/>
                <a:gridCol w="637920"/>
              </a:tblGrid>
              <a:tr h="409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2" name=""/>
          <p:cNvGrpSpPr/>
          <p:nvPr/>
        </p:nvGrpSpPr>
        <p:grpSpPr>
          <a:xfrm>
            <a:off x="469800" y="3454560"/>
            <a:ext cx="4394160" cy="2863800"/>
            <a:chOff x="469800" y="3454560"/>
            <a:chExt cx="4394160" cy="2863800"/>
          </a:xfrm>
        </p:grpSpPr>
        <p:sp>
          <p:nvSpPr>
            <p:cNvPr id="1533" name=""/>
            <p:cNvSpPr/>
            <p:nvPr/>
          </p:nvSpPr>
          <p:spPr>
            <a:xfrm>
              <a:off x="469800" y="3454560"/>
              <a:ext cx="439416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925200" y="4387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55700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18556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81592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452400" y="438624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081320" y="43862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925200" y="4786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55700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18556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81592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452400" y="478476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081320" y="478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925200" y="5181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55700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18556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81592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452400" y="518004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081320" y="51800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925200" y="556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55700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18556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81592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452400" y="556560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081320" y="5565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790200" y="41403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90200" y="45435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90200" y="49323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90200" y="533088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90200" y="57243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90200" y="37465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925200" y="59641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55700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18556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81592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452400" y="596268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081320" y="5962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925200" y="3995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55700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18556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81592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452400" y="399420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081320" y="3994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6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1577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8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1579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1580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2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5" name=""/>
          <p:cNvGrpSpPr/>
          <p:nvPr/>
        </p:nvGrpSpPr>
        <p:grpSpPr>
          <a:xfrm>
            <a:off x="469800" y="353880"/>
            <a:ext cx="4394160" cy="2864160"/>
            <a:chOff x="469800" y="353880"/>
            <a:chExt cx="4394160" cy="2864160"/>
          </a:xfrm>
        </p:grpSpPr>
        <p:sp>
          <p:nvSpPr>
            <p:cNvPr id="1586" name=""/>
            <p:cNvSpPr/>
            <p:nvPr/>
          </p:nvSpPr>
          <p:spPr>
            <a:xfrm>
              <a:off x="469800" y="353880"/>
              <a:ext cx="4394160" cy="2864160"/>
            </a:xfrm>
            <a:prstGeom prst="roundRect">
              <a:avLst>
                <a:gd name="adj" fmla="val 1001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925200" y="1692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1557000" y="16905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185560" y="16905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815920" y="16905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452400" y="169056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081320" y="16905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925200" y="2077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1557000" y="2076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185560" y="2076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815920" y="2076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452400" y="207648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081320" y="20764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90200" y="102060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90200" y="141444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90200" y="18129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90200" y="221148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90200" y="26049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90200" y="6271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925200" y="28828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557000" y="28814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185560" y="28814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815920" y="28814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452400" y="2881440"/>
              <a:ext cx="29700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079520" y="28814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925200" y="8953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557000" y="8938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185560" y="8938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815920" y="8938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452400" y="893880"/>
              <a:ext cx="29700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079520" y="8938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925200" y="1293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55700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18556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81592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452400" y="1292400"/>
              <a:ext cx="29700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07952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925200" y="2473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557000" y="2471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185560" y="2471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815920" y="2471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452400" y="247176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079520" y="2471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9" name=""/>
          <p:cNvGrpSpPr/>
          <p:nvPr/>
        </p:nvGrpSpPr>
        <p:grpSpPr>
          <a:xfrm>
            <a:off x="5116680" y="352440"/>
            <a:ext cx="4394160" cy="2863800"/>
            <a:chOff x="5116680" y="352440"/>
            <a:chExt cx="4394160" cy="2863800"/>
          </a:xfrm>
        </p:grpSpPr>
        <p:sp>
          <p:nvSpPr>
            <p:cNvPr id="1630" name=""/>
            <p:cNvSpPr/>
            <p:nvPr/>
          </p:nvSpPr>
          <p:spPr>
            <a:xfrm>
              <a:off x="5116680" y="352440"/>
              <a:ext cx="439416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572440" y="16905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204240" y="16891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832800" y="16891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463160" y="16891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8099640" y="168912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8728200" y="16891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572440" y="20764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204240" y="207504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832800" y="20750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463160" y="207504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8099640" y="2075040"/>
              <a:ext cx="29700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8728200" y="20750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437440" y="10191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437440" y="141300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437440" y="18111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437440" y="220968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437440" y="26035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437440" y="62532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572440" y="288144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204240" y="2879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832800" y="2879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463160" y="2879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8099640" y="287964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8726760" y="2879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572440" y="89388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204240" y="8920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832800" y="8920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463160" y="8920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8099640" y="89208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8726760" y="8920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557244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204240" y="1290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832800" y="1290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463160" y="1290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8099640" y="1290600"/>
              <a:ext cx="297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726760" y="1290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572440" y="2471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204240" y="24703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832800" y="247032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463160" y="24703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8099640" y="2470320"/>
              <a:ext cx="29700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8726760" y="247032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3" name=""/>
          <p:cNvGrpSpPr/>
          <p:nvPr/>
        </p:nvGrpSpPr>
        <p:grpSpPr>
          <a:xfrm>
            <a:off x="5116680" y="3454560"/>
            <a:ext cx="4394160" cy="2863800"/>
            <a:chOff x="5116680" y="3454560"/>
            <a:chExt cx="4394160" cy="2863800"/>
          </a:xfrm>
        </p:grpSpPr>
        <p:sp>
          <p:nvSpPr>
            <p:cNvPr id="1674" name=""/>
            <p:cNvSpPr/>
            <p:nvPr/>
          </p:nvSpPr>
          <p:spPr>
            <a:xfrm>
              <a:off x="5116680" y="3454560"/>
              <a:ext cx="439416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572080" y="4387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20388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832800" y="43862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462800" y="43862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8099640" y="438624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8728200" y="43862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572080" y="4786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20388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832800" y="478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462800" y="478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8099640" y="478476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8728200" y="478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572080" y="5181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20388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832800" y="51800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462800" y="51800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099640" y="518004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8728200" y="51800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572080" y="556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20388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832800" y="5565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462800" y="55656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8099640" y="556560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8728200" y="55656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437440" y="414036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437440" y="454356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437440" y="493236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437440" y="533088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437440" y="572436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437440" y="3746520"/>
              <a:ext cx="374616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572080" y="59641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20388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832800" y="5962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462800" y="59626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8099640" y="596268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8728200" y="59626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572080" y="3995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20388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832800" y="3994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462800" y="3994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8099640" y="3994200"/>
              <a:ext cx="296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8728200" y="3994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17" name=""/>
          <p:cNvGraphicFramePr/>
          <p:nvPr/>
        </p:nvGraphicFramePr>
        <p:xfrm>
          <a:off x="790560" y="638280"/>
          <a:ext cx="8381880" cy="550548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8840"/>
                <a:gridCol w="648000"/>
                <a:gridCol w="857160"/>
                <a:gridCol w="619200"/>
                <a:gridCol w="618840"/>
                <a:gridCol w="628920"/>
                <a:gridCol w="637920"/>
                <a:gridCol w="609840"/>
                <a:gridCol w="637920"/>
              </a:tblGrid>
              <a:tr h="409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23:24:47Z</dcterms:created>
  <dc:creator/>
  <dc:description/>
  <dc:language>en-US</dc:language>
  <cp:lastModifiedBy/>
  <cp:lastPrinted>2001-05-08T06:29:51Z</cp:lastPrinted>
  <dcterms:modified xsi:type="dcterms:W3CDTF">2005-11-30T00:25:35Z</dcterms:modified>
  <cp:revision>84</cp:revision>
  <dc:subject/>
  <dc:title/>
</cp:coreProperties>
</file>